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440C-1C67-4BA3-A743-002D3D653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5702-585B-4D4D-87C8-AD3BE6603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FBCD-07DB-42AF-AE64-7A6CE1C0F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205F-F8D4-4E05-89EC-E26EE9B22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61DD-87A5-43FE-AD26-AF737FAB6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513D-6648-4846-892E-032873BEB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8301-C349-460A-B2A8-53C92662A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4EC2-5085-4414-AB42-A89424AC4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C117-4183-478B-A70C-51723A766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6A4F-EF2A-46A2-9199-118B8B2D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1250-826D-4CAB-B9E6-C3C4F7D0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7DA3-986B-4E6E-9FAC-2685600C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39592-0109-4FDE-9DF5-6E74D7FE0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словные зна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6102600">
            <a:off x="5626800" y="3813840"/>
            <a:ext cx="531720" cy="482400"/>
          </a:xfrm>
          <a:prstGeom prst="donut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0000" y="3860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.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213372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ъекты здравоох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48000" y="5805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58920" y="2637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спределительный уз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443640" y="4581360"/>
            <a:ext cx="15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доза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227640" y="386064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идроуз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47640" y="393372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илые до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659640" y="2781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тельная(кол-во котл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19280" y="1628640"/>
            <a:ext cx="27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плотр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35280" y="530064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школьные учреж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4653000"/>
            <a:ext cx="28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ъекты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471960" y="3213000"/>
            <a:ext cx="953280" cy="369720"/>
            <a:chOff x="471960" y="3213000"/>
            <a:chExt cx="953280" cy="369720"/>
          </a:xfrm>
        </p:grpSpPr>
        <p:sp>
          <p:nvSpPr>
            <p:cNvPr id="56" name=""/>
            <p:cNvSpPr/>
            <p:nvPr/>
          </p:nvSpPr>
          <p:spPr>
            <a:xfrm>
              <a:off x="471960" y="3213000"/>
              <a:ext cx="291600" cy="36972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73040" y="3243600"/>
              <a:ext cx="95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К-14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1547640" y="3141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колодец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скважи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родник: 140-дебет воды,м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315120" y="1773360"/>
            <a:ext cx="28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ч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3933720"/>
            <a:ext cx="100800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х эт. ж/д №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1989000"/>
            <a:ext cx="576360" cy="576360"/>
          </a:xfrm>
          <a:prstGeom prst="plus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48360" y="1628640"/>
            <a:ext cx="1152360" cy="576360"/>
          </a:xfrm>
          <a:prstGeom prst="flowChartInternalStora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Магазин 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1773360"/>
            <a:ext cx="647640" cy="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364000" y="2491920"/>
            <a:ext cx="936720" cy="862560"/>
            <a:chOff x="5364000" y="2491920"/>
            <a:chExt cx="936720" cy="862560"/>
          </a:xfrm>
        </p:grpSpPr>
        <p:sp>
          <p:nvSpPr>
            <p:cNvPr id="65" name=""/>
            <p:cNvSpPr/>
            <p:nvPr/>
          </p:nvSpPr>
          <p:spPr>
            <a:xfrm>
              <a:off x="5364000" y="2779560"/>
              <a:ext cx="936720" cy="574920"/>
            </a:xfrm>
            <a:prstGeom prst="flowChartManualInpu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5508360" y="2491920"/>
              <a:ext cx="0" cy="35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508360" y="2492280"/>
              <a:ext cx="14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652720" y="2492280"/>
              <a:ext cx="0" cy="35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755640" y="2708280"/>
            <a:ext cx="216000" cy="2872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08720" y="306864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РН18 -2шт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2852640"/>
            <a:ext cx="100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Сибирь-4шт.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867280" y="4437000"/>
            <a:ext cx="289080" cy="792360"/>
          </a:xfrm>
          <a:prstGeom prst="flowChartMagneticDisk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724280"/>
            <a:ext cx="1008000" cy="360360"/>
          </a:xfrm>
          <a:custGeom>
            <a:avLst/>
            <a:gdLst>
              <a:gd name="textAreaLeft" fmla="*/ 221400 w 1008000"/>
              <a:gd name="textAreaRight" fmla="*/ 786600 w 1008000"/>
              <a:gd name="textAreaTop" fmla="*/ 79200 h 360360"/>
              <a:gd name="textAreaBottom" fmla="*/ 2811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373720"/>
            <a:ext cx="1008000" cy="360360"/>
          </a:xfrm>
          <a:custGeom>
            <a:avLst/>
            <a:gdLst>
              <a:gd name="textAreaLeft" fmla="*/ 221400 w 1008000"/>
              <a:gd name="textAreaRight" fmla="*/ 786600 w 1008000"/>
              <a:gd name="textAreaTop" fmla="*/ 79200 h 360360"/>
              <a:gd name="textAreaBottom" fmla="*/ 2811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724360" y="5589720"/>
            <a:ext cx="792360" cy="5760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659640" y="566100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ъекты куль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85-05-01T01:21:06Z</dcterms:created>
  <dc:creator>opilchs6</dc:creator>
  <dc:description/>
  <dc:language>en-US</dc:language>
  <cp:lastModifiedBy>www.PHILka.RU</cp:lastModifiedBy>
  <dcterms:modified xsi:type="dcterms:W3CDTF">2009-01-22T13:11:00Z</dcterms:modified>
  <cp:revision>9</cp:revision>
  <dc:subject/>
  <dc:title> Условные знаки</dc:title>
</cp:coreProperties>
</file>