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B891-92A1-4650-893B-4DB76943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D2F-BA83-4849-A164-179EC9C4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D98-0F9F-4E3B-B47E-B4FB6E6B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D0B-3343-4512-BD09-2F7F74A9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26FF-CDF2-47C0-95BF-104BB09F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920-0E2F-41A3-BA3D-6309A13A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A87E-2C4D-4E6B-869A-2BE9CDA0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99C2-C7CE-4EE0-BBD1-62020BE8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7AC-5A16-451B-9A8A-4E96B731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806C-C3F0-4037-A639-6FDCAE9F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D363-CF25-41AB-94BC-63C2B902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F970-AEDC-4F5B-8446-0F142C9D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DE9B-AB5C-4DB4-ADF0-B2CB61FCC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ловные 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6102600">
            <a:off x="5626800" y="3813840"/>
            <a:ext cx="531720" cy="482400"/>
          </a:xfrm>
          <a:prstGeom prst="donut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38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.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213372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кты здравоо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580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6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пределительный уз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43640" y="458136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доза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3860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дроуз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7640" y="39337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лые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59640" y="2781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ельная(кол-во кот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1628640"/>
            <a:ext cx="27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плотр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35280" y="53006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школьные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465300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кты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71960" y="3213000"/>
            <a:ext cx="953280" cy="369720"/>
            <a:chOff x="471960" y="3213000"/>
            <a:chExt cx="953280" cy="369720"/>
          </a:xfrm>
        </p:grpSpPr>
        <p:sp>
          <p:nvSpPr>
            <p:cNvPr id="56" name=""/>
            <p:cNvSpPr/>
            <p:nvPr/>
          </p:nvSpPr>
          <p:spPr>
            <a:xfrm>
              <a:off x="471960" y="3213000"/>
              <a:ext cx="291600" cy="36972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3040" y="3243600"/>
              <a:ext cx="95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К-1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547640" y="3141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колодец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скваж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одник: 140-дебет воды,м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15120" y="177336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33720"/>
            <a:ext cx="1008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х эт. ж/д №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989000"/>
            <a:ext cx="576360" cy="576360"/>
          </a:xfrm>
          <a:prstGeom prst="plus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1628640"/>
            <a:ext cx="1152360" cy="576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агазин 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773360"/>
            <a:ext cx="64764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64000" y="2491920"/>
            <a:ext cx="936720" cy="862560"/>
            <a:chOff x="5364000" y="2491920"/>
            <a:chExt cx="936720" cy="862560"/>
          </a:xfrm>
        </p:grpSpPr>
        <p:sp>
          <p:nvSpPr>
            <p:cNvPr id="65" name=""/>
            <p:cNvSpPr/>
            <p:nvPr/>
          </p:nvSpPr>
          <p:spPr>
            <a:xfrm>
              <a:off x="5364000" y="2779560"/>
              <a:ext cx="936720" cy="574920"/>
            </a:xfrm>
            <a:prstGeom prst="flowChartManualInpu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508360" y="2491920"/>
              <a:ext cx="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08360" y="249228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52720" y="2492280"/>
              <a:ext cx="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55640" y="2708280"/>
            <a:ext cx="216000" cy="287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8720" y="3068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РН18 -2шт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2852640"/>
            <a:ext cx="100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Сибирь-4шт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4437000"/>
            <a:ext cx="289080" cy="792360"/>
          </a:xfrm>
          <a:prstGeom prst="flowChartMagneticDisk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724280"/>
            <a:ext cx="1008000" cy="360360"/>
          </a:xfrm>
          <a:custGeom>
            <a:avLst/>
            <a:gdLst>
              <a:gd name="textAreaLeft" fmla="*/ 221400 w 1008000"/>
              <a:gd name="textAreaRight" fmla="*/ 786600 w 100800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373720"/>
            <a:ext cx="1008000" cy="360360"/>
          </a:xfrm>
          <a:custGeom>
            <a:avLst/>
            <a:gdLst>
              <a:gd name="textAreaLeft" fmla="*/ 221400 w 1008000"/>
              <a:gd name="textAreaRight" fmla="*/ 786600 w 100800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24360" y="5589720"/>
            <a:ext cx="792360" cy="576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59640" y="56610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кты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5-05-01T01:21:06Z</dcterms:created>
  <dc:creator>opilchs6</dc:creator>
  <dc:description/>
  <dc:language>en-US</dc:language>
  <cp:lastModifiedBy>www.PHILka.RU</cp:lastModifiedBy>
  <dcterms:modified xsi:type="dcterms:W3CDTF">2009-01-22T13:11:00Z</dcterms:modified>
  <cp:revision>9</cp:revision>
  <dc:subject/>
  <dc:title> Условные знаки</dc:title>
</cp:coreProperties>
</file>