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2F0-CF0E-42F8-9A37-CAA88571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288-24FE-46E9-8BC3-02CEEAA5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5815-22F0-441C-9236-ECCDD565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108-45CC-4AA4-AF59-785A619A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12F-9B25-4ABA-B11D-07AFD892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D4B-4B11-4551-80B8-5C250158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039-5F7C-47EF-8962-CA000312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677-43E7-4FEF-977D-AD0BB73F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800-8BE1-420C-86FD-614A2FC7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72D-DE04-45BC-A31F-61E15328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001-7DB8-4A53-A69B-88E1145C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DE9-78F8-4D86-BDAB-DECDA40B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F566-4068-4DE2-AFD2-60454CB6C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51280" y="4653000"/>
            <a:ext cx="57636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Котель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68560" y="1219320"/>
            <a:ext cx="21420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48040" y="1260360"/>
            <a:ext cx="31896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479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356000" y="4508640"/>
            <a:ext cx="216000" cy="287280"/>
          </a:xfrm>
          <a:custGeom>
            <a:avLst/>
            <a:gdLst/>
            <a:ahLst/>
            <a:rect l="l" t="t" r="r" b="b"/>
            <a:pathLst>
              <a:path w="62" h="197">
                <a:moveTo>
                  <a:pt x="0" y="0"/>
                </a:moveTo>
                <a:lnTo>
                  <a:pt x="62" y="19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148360" y="5300640"/>
          <a:ext cx="3662280" cy="717480"/>
        </p:xfrm>
        <a:graphic>
          <a:graphicData uri="http://schemas.openxmlformats.org/drawingml/2006/table">
            <a:tbl>
              <a:tblPr/>
              <a:tblGrid>
                <a:gridCol w="919080"/>
                <a:gridCol w="838080"/>
                <a:gridCol w="685800"/>
                <a:gridCol w="609840"/>
                <a:gridCol w="609480"/>
              </a:tblGrid>
              <a:tr h="198360">
                <a:tc row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ой социальный фон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зд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населения, чел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рудо-способ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ые до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995640" y="1773360"/>
            <a:ext cx="4032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339640" y="2997000"/>
            <a:ext cx="934920" cy="1439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28000" y="2781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403280" y="4868640"/>
            <a:ext cx="0" cy="215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403280" y="5084640"/>
            <a:ext cx="15112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4869000"/>
            <a:ext cx="0" cy="215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2781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2781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916000" y="4437000"/>
            <a:ext cx="360360" cy="647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340000" y="2997360"/>
            <a:ext cx="5688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36360" y="4510080"/>
            <a:ext cx="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443640" y="2781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4437000"/>
            <a:ext cx="792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2781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2560" y="-2619360"/>
            <a:ext cx="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4560" y="-5643720"/>
            <a:ext cx="0" cy="14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28000" y="1557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1773360"/>
            <a:ext cx="0" cy="1225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4076640"/>
            <a:ext cx="718920" cy="430200"/>
          </a:xfrm>
          <a:prstGeom prst="flowChartManualInpu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140360" y="3860640"/>
            <a:ext cx="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386064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3860640"/>
            <a:ext cx="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24000" y="404640"/>
            <a:ext cx="5400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хема тепловых сетей котельной  №11 «Совхозная» с. Каб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465300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956720" y="1627560"/>
            <a:ext cx="288360" cy="307080"/>
            <a:chOff x="7956720" y="1627560"/>
            <a:chExt cx="288360" cy="307080"/>
          </a:xfrm>
        </p:grpSpPr>
        <p:sp>
          <p:nvSpPr>
            <p:cNvPr id="73" name=""/>
            <p:cNvSpPr/>
            <p:nvPr/>
          </p:nvSpPr>
          <p:spPr>
            <a:xfrm>
              <a:off x="7956720" y="1730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01000" y="1627560"/>
              <a:ext cx="24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11280" y="4940640"/>
            <a:ext cx="288720" cy="307080"/>
            <a:chOff x="2411280" y="4940640"/>
            <a:chExt cx="288720" cy="307080"/>
          </a:xfrm>
        </p:grpSpPr>
        <p:sp>
          <p:nvSpPr>
            <p:cNvPr id="76" name=""/>
            <p:cNvSpPr/>
            <p:nvPr/>
          </p:nvSpPr>
          <p:spPr>
            <a:xfrm>
              <a:off x="2411280" y="504396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55560" y="4940640"/>
              <a:ext cx="24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332000" y="4940640"/>
            <a:ext cx="288360" cy="307080"/>
            <a:chOff x="1332000" y="4940640"/>
            <a:chExt cx="288360" cy="307080"/>
          </a:xfrm>
        </p:grpSpPr>
        <p:sp>
          <p:nvSpPr>
            <p:cNvPr id="79" name=""/>
            <p:cNvSpPr/>
            <p:nvPr/>
          </p:nvSpPr>
          <p:spPr>
            <a:xfrm>
              <a:off x="1332000" y="504396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6280" y="4940640"/>
              <a:ext cx="24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5148360" y="2781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2781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2781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2781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6000" y="1557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1557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1557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1557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1557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465300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2565360"/>
            <a:ext cx="504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- эт. ж/к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2565360"/>
            <a:ext cx="504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- эт. ж/к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2360" y="2565360"/>
            <a:ext cx="504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- эт. ж/к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2565360"/>
            <a:ext cx="504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- эт. ж/к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5280" y="2565360"/>
            <a:ext cx="505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- эт. ж/к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2565360"/>
            <a:ext cx="504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- эт. ж/к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4360" y="2565360"/>
            <a:ext cx="50508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- эт. ж/к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504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- эт. ж/к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1341360"/>
            <a:ext cx="504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- эт. ж/к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48360" y="1341360"/>
            <a:ext cx="505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- эт. ж/к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40720" y="1341360"/>
            <a:ext cx="504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- эт. ж/к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40720" y="2565360"/>
            <a:ext cx="504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- эт. ж/к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2565360"/>
            <a:ext cx="504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- эт. ж/к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0000" y="1341360"/>
            <a:ext cx="504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- эт. ж/к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1341360"/>
            <a:ext cx="504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1- эт. ж/к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076720" y="2851560"/>
            <a:ext cx="288720" cy="307080"/>
            <a:chOff x="5076720" y="2851560"/>
            <a:chExt cx="288720" cy="307080"/>
          </a:xfrm>
        </p:grpSpPr>
        <p:sp>
          <p:nvSpPr>
            <p:cNvPr id="107" name=""/>
            <p:cNvSpPr/>
            <p:nvPr/>
          </p:nvSpPr>
          <p:spPr>
            <a:xfrm>
              <a:off x="5076720" y="2954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21000" y="2851560"/>
              <a:ext cx="24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427640" y="2851560"/>
            <a:ext cx="288360" cy="307080"/>
            <a:chOff x="4427640" y="2851560"/>
            <a:chExt cx="288360" cy="307080"/>
          </a:xfrm>
        </p:grpSpPr>
        <p:sp>
          <p:nvSpPr>
            <p:cNvPr id="110" name=""/>
            <p:cNvSpPr/>
            <p:nvPr/>
          </p:nvSpPr>
          <p:spPr>
            <a:xfrm>
              <a:off x="4427640" y="2954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71920" y="2851560"/>
              <a:ext cx="24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780000" y="2851560"/>
            <a:ext cx="288360" cy="307080"/>
            <a:chOff x="3780000" y="2851560"/>
            <a:chExt cx="288360" cy="307080"/>
          </a:xfrm>
        </p:grpSpPr>
        <p:sp>
          <p:nvSpPr>
            <p:cNvPr id="113" name=""/>
            <p:cNvSpPr/>
            <p:nvPr/>
          </p:nvSpPr>
          <p:spPr>
            <a:xfrm>
              <a:off x="3780000" y="2954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24280" y="2851560"/>
              <a:ext cx="24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203640" y="2851560"/>
            <a:ext cx="288360" cy="307080"/>
            <a:chOff x="3203640" y="2851560"/>
            <a:chExt cx="288360" cy="307080"/>
          </a:xfrm>
        </p:grpSpPr>
        <p:sp>
          <p:nvSpPr>
            <p:cNvPr id="116" name=""/>
            <p:cNvSpPr/>
            <p:nvPr/>
          </p:nvSpPr>
          <p:spPr>
            <a:xfrm>
              <a:off x="3203640" y="2954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7920" y="2851560"/>
              <a:ext cx="24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627280" y="2851560"/>
            <a:ext cx="288720" cy="307080"/>
            <a:chOff x="2627280" y="2851560"/>
            <a:chExt cx="288720" cy="307080"/>
          </a:xfrm>
        </p:grpSpPr>
        <p:sp>
          <p:nvSpPr>
            <p:cNvPr id="119" name=""/>
            <p:cNvSpPr/>
            <p:nvPr/>
          </p:nvSpPr>
          <p:spPr>
            <a:xfrm>
              <a:off x="2627280" y="2954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71560" y="2851560"/>
              <a:ext cx="24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68360" y="2851560"/>
            <a:ext cx="288720" cy="307080"/>
            <a:chOff x="2268360" y="2851560"/>
            <a:chExt cx="288720" cy="307080"/>
          </a:xfrm>
        </p:grpSpPr>
        <p:sp>
          <p:nvSpPr>
            <p:cNvPr id="122" name=""/>
            <p:cNvSpPr/>
            <p:nvPr/>
          </p:nvSpPr>
          <p:spPr>
            <a:xfrm>
              <a:off x="2268360" y="2954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12640" y="2851560"/>
              <a:ext cx="24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956720" y="2851560"/>
            <a:ext cx="288360" cy="307080"/>
            <a:chOff x="7956720" y="2851560"/>
            <a:chExt cx="288360" cy="307080"/>
          </a:xfrm>
        </p:grpSpPr>
        <p:sp>
          <p:nvSpPr>
            <p:cNvPr id="125" name=""/>
            <p:cNvSpPr/>
            <p:nvPr/>
          </p:nvSpPr>
          <p:spPr>
            <a:xfrm>
              <a:off x="7956720" y="2954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01000" y="2851560"/>
              <a:ext cx="24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380360" y="2851560"/>
            <a:ext cx="288360" cy="307080"/>
            <a:chOff x="7380360" y="2851560"/>
            <a:chExt cx="288360" cy="307080"/>
          </a:xfrm>
        </p:grpSpPr>
        <p:sp>
          <p:nvSpPr>
            <p:cNvPr id="128" name=""/>
            <p:cNvSpPr/>
            <p:nvPr/>
          </p:nvSpPr>
          <p:spPr>
            <a:xfrm>
              <a:off x="7380360" y="2954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24640" y="2851560"/>
              <a:ext cx="24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804000" y="2851560"/>
            <a:ext cx="288720" cy="307080"/>
            <a:chOff x="6804000" y="2851560"/>
            <a:chExt cx="288720" cy="307080"/>
          </a:xfrm>
        </p:grpSpPr>
        <p:sp>
          <p:nvSpPr>
            <p:cNvPr id="131" name=""/>
            <p:cNvSpPr/>
            <p:nvPr/>
          </p:nvSpPr>
          <p:spPr>
            <a:xfrm>
              <a:off x="6804000" y="2954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8280" y="2851560"/>
              <a:ext cx="24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372360" y="2851560"/>
            <a:ext cx="288360" cy="307080"/>
            <a:chOff x="6372360" y="2851560"/>
            <a:chExt cx="288360" cy="307080"/>
          </a:xfrm>
        </p:grpSpPr>
        <p:sp>
          <p:nvSpPr>
            <p:cNvPr id="134" name=""/>
            <p:cNvSpPr/>
            <p:nvPr/>
          </p:nvSpPr>
          <p:spPr>
            <a:xfrm>
              <a:off x="6372360" y="2954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16640" y="2851560"/>
              <a:ext cx="24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651640" y="2851560"/>
            <a:ext cx="288360" cy="307080"/>
            <a:chOff x="5651640" y="2851560"/>
            <a:chExt cx="288360" cy="307080"/>
          </a:xfrm>
        </p:grpSpPr>
        <p:sp>
          <p:nvSpPr>
            <p:cNvPr id="137" name=""/>
            <p:cNvSpPr/>
            <p:nvPr/>
          </p:nvSpPr>
          <p:spPr>
            <a:xfrm>
              <a:off x="5651640" y="2954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95920" y="2851560"/>
              <a:ext cx="24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164360" y="1627560"/>
            <a:ext cx="288720" cy="307080"/>
            <a:chOff x="7164360" y="1627560"/>
            <a:chExt cx="288720" cy="307080"/>
          </a:xfrm>
        </p:grpSpPr>
        <p:sp>
          <p:nvSpPr>
            <p:cNvPr id="140" name=""/>
            <p:cNvSpPr/>
            <p:nvPr/>
          </p:nvSpPr>
          <p:spPr>
            <a:xfrm>
              <a:off x="7164360" y="1730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08640" y="1627560"/>
              <a:ext cx="24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804000" y="1627560"/>
            <a:ext cx="288720" cy="307080"/>
            <a:chOff x="6804000" y="1627560"/>
            <a:chExt cx="288720" cy="307080"/>
          </a:xfrm>
        </p:grpSpPr>
        <p:sp>
          <p:nvSpPr>
            <p:cNvPr id="143" name=""/>
            <p:cNvSpPr/>
            <p:nvPr/>
          </p:nvSpPr>
          <p:spPr>
            <a:xfrm>
              <a:off x="6804000" y="1730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48280" y="1627560"/>
              <a:ext cx="24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156360" y="1627560"/>
            <a:ext cx="288360" cy="307080"/>
            <a:chOff x="6156360" y="1627560"/>
            <a:chExt cx="288360" cy="307080"/>
          </a:xfrm>
        </p:grpSpPr>
        <p:sp>
          <p:nvSpPr>
            <p:cNvPr id="146" name=""/>
            <p:cNvSpPr/>
            <p:nvPr/>
          </p:nvSpPr>
          <p:spPr>
            <a:xfrm>
              <a:off x="6156360" y="1730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00640" y="1627560"/>
              <a:ext cx="24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35640" y="1627560"/>
            <a:ext cx="288360" cy="307080"/>
            <a:chOff x="5435640" y="1627560"/>
            <a:chExt cx="288360" cy="307080"/>
          </a:xfrm>
        </p:grpSpPr>
        <p:sp>
          <p:nvSpPr>
            <p:cNvPr id="149" name=""/>
            <p:cNvSpPr/>
            <p:nvPr/>
          </p:nvSpPr>
          <p:spPr>
            <a:xfrm>
              <a:off x="5435640" y="1723320"/>
              <a:ext cx="101520" cy="93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79920" y="1627560"/>
              <a:ext cx="24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716360" y="1627560"/>
            <a:ext cx="288720" cy="307080"/>
            <a:chOff x="4716360" y="1627560"/>
            <a:chExt cx="288720" cy="307080"/>
          </a:xfrm>
        </p:grpSpPr>
        <p:sp>
          <p:nvSpPr>
            <p:cNvPr id="152" name=""/>
            <p:cNvSpPr/>
            <p:nvPr/>
          </p:nvSpPr>
          <p:spPr>
            <a:xfrm>
              <a:off x="4716360" y="1730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60640" y="1627560"/>
              <a:ext cx="24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924360" y="1627560"/>
            <a:ext cx="288360" cy="307080"/>
            <a:chOff x="3924360" y="1627560"/>
            <a:chExt cx="288360" cy="307080"/>
          </a:xfrm>
        </p:grpSpPr>
        <p:sp>
          <p:nvSpPr>
            <p:cNvPr id="155" name=""/>
            <p:cNvSpPr/>
            <p:nvPr/>
          </p:nvSpPr>
          <p:spPr>
            <a:xfrm>
              <a:off x="3924360" y="1730880"/>
              <a:ext cx="101520" cy="820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68640" y="1627560"/>
              <a:ext cx="24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59:48Z</dcterms:created>
  <dc:creator>Саша</dc:creator>
  <dc:description/>
  <dc:language>en-US</dc:language>
  <cp:lastModifiedBy>Администратор</cp:lastModifiedBy>
  <dcterms:modified xsi:type="dcterms:W3CDTF">2009-02-06T06:19:46Z</dcterms:modified>
  <cp:revision>74</cp:revision>
  <dc:subject/>
  <dc:title>Слайд 1</dc:title>
</cp:coreProperties>
</file>