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D63-9814-406B-830D-0E36DE60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99F-B794-4BCE-A0E0-ED9A0C18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E0C-FF09-4455-85A5-C4AE8549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3D6-3649-4291-AD15-A201F99F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3E0-0E5D-4AFA-A020-0C19E48A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EC5-0506-495B-B386-5629A122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4CA-ACCC-4F73-BB9A-5433A13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CF1-22F9-42EC-A0DF-CCB2204F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732-179F-4230-9683-9354786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D2F-9534-4437-BC7F-9A5DD004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1E1-F6DA-4E9E-9C91-6E3BC26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318-953E-404D-BD16-81A1E70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4FB7-B7AD-4D70-A5D4-9D192228B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410080" y="5526000"/>
          <a:ext cx="3733920" cy="133200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685800"/>
                <a:gridCol w="609840"/>
                <a:gridCol w="609480"/>
              </a:tblGrid>
              <a:tr h="21744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социальны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д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населения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удо-способ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ые до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н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804000" y="980640"/>
            <a:ext cx="0" cy="180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364000" y="1125000"/>
            <a:ext cx="7308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907640" y="3716280"/>
            <a:ext cx="71640" cy="158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1052640"/>
            <a:ext cx="719280" cy="72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3429000"/>
            <a:ext cx="21564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5640" y="3716280"/>
            <a:ext cx="86364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195640" y="2924280"/>
            <a:ext cx="28872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156360" y="2349000"/>
            <a:ext cx="64620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804000" y="981000"/>
            <a:ext cx="43200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0"/>
            <a:ext cx="4392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тепловых сетей котельной  № 5 с. Каб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90792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3280" y="2205000"/>
            <a:ext cx="712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500360" y="1052640"/>
            <a:ext cx="431640" cy="23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90792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907920"/>
            <a:ext cx="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32000" y="1052640"/>
            <a:ext cx="144360" cy="720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052640"/>
            <a:ext cx="7164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411280" y="2420640"/>
            <a:ext cx="50508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788000" y="1052640"/>
            <a:ext cx="1296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6360" y="2421000"/>
            <a:ext cx="1800000" cy="1512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364000" y="1052280"/>
            <a:ext cx="21600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7640" y="765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6360" y="3644640"/>
            <a:ext cx="503280" cy="431640"/>
            <a:chOff x="4716360" y="3644640"/>
            <a:chExt cx="503280" cy="431640"/>
          </a:xfrm>
        </p:grpSpPr>
        <p:sp>
          <p:nvSpPr>
            <p:cNvPr id="66" name=""/>
            <p:cNvSpPr/>
            <p:nvPr/>
          </p:nvSpPr>
          <p:spPr>
            <a:xfrm>
              <a:off x="4716360" y="3788640"/>
              <a:ext cx="503280" cy="287640"/>
            </a:xfrm>
            <a:prstGeom prst="flowChartManualInpu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4793760" y="364464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3760" y="3645000"/>
              <a:ext cx="7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1520" y="364500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11280" y="2565360"/>
            <a:ext cx="73080" cy="358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3141720"/>
            <a:ext cx="72720" cy="358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79640" y="3499920"/>
            <a:ext cx="288720" cy="217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42560" y="3933720"/>
            <a:ext cx="73080" cy="201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2781360"/>
            <a:ext cx="21600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421000"/>
            <a:ext cx="2858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842920" y="1125360"/>
            <a:ext cx="1368360" cy="1079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066920" y="980640"/>
            <a:ext cx="14436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1341360"/>
            <a:ext cx="287280" cy="289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125360"/>
            <a:ext cx="502920" cy="360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484280"/>
            <a:ext cx="50328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1844640"/>
            <a:ext cx="50328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700280"/>
            <a:ext cx="35892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32000" y="2060640"/>
            <a:ext cx="28908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2276640"/>
            <a:ext cx="7308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2492280"/>
            <a:ext cx="14436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924280"/>
            <a:ext cx="28764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826920" y="2708280"/>
            <a:ext cx="1368720" cy="936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635280" y="2852640"/>
            <a:ext cx="216000" cy="1461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779640" y="2707920"/>
            <a:ext cx="144360" cy="289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140360" y="3644640"/>
            <a:ext cx="21564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3357720"/>
            <a:ext cx="71280" cy="72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2421000"/>
            <a:ext cx="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2637000"/>
            <a:ext cx="216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2924280"/>
            <a:ext cx="216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67280" y="2205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67280" y="2060640"/>
            <a:ext cx="144720" cy="1461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12000" y="184464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940000" y="1773360"/>
            <a:ext cx="7164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867280" y="1988640"/>
            <a:ext cx="14472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80000" y="2133720"/>
            <a:ext cx="28728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35280" y="2133720"/>
            <a:ext cx="144360" cy="7905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364000" y="2491920"/>
            <a:ext cx="14472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92360" y="2779560"/>
            <a:ext cx="142920" cy="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76720" y="2924280"/>
            <a:ext cx="35892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435280" y="2276640"/>
            <a:ext cx="7308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48000" y="2997360"/>
            <a:ext cx="7308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04000" y="3212640"/>
            <a:ext cx="21600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372360" y="2997000"/>
            <a:ext cx="50328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300360" y="3213000"/>
            <a:ext cx="71640" cy="863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940360" y="4076640"/>
            <a:ext cx="35892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156360" y="4076280"/>
            <a:ext cx="14292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8440"/>
            <a:ext cx="216000" cy="2142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27640" y="3357720"/>
            <a:ext cx="144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084720" y="3499920"/>
            <a:ext cx="28584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524720" y="2565000"/>
            <a:ext cx="100800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8360" y="2565360"/>
            <a:ext cx="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308360" y="2637000"/>
            <a:ext cx="14292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2924280"/>
            <a:ext cx="71640" cy="792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236000" y="3213000"/>
            <a:ext cx="14256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96360" y="2421000"/>
            <a:ext cx="7128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56720" y="2637000"/>
            <a:ext cx="71280" cy="100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812000" y="2205000"/>
            <a:ext cx="216000" cy="432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028000" y="981000"/>
            <a:ext cx="144360" cy="1224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0720" y="981000"/>
            <a:ext cx="360360" cy="432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667280" y="981000"/>
            <a:ext cx="730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3068640"/>
            <a:ext cx="57600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812000" y="3212640"/>
            <a:ext cx="21600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667280" y="3357720"/>
            <a:ext cx="360360" cy="647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2720" y="3500280"/>
            <a:ext cx="142920" cy="649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17080" y="4149720"/>
            <a:ext cx="3585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4149720"/>
            <a:ext cx="0" cy="358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04360" y="4149720"/>
            <a:ext cx="712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459640" y="3789360"/>
            <a:ext cx="14472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04360" y="3789360"/>
            <a:ext cx="144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1413000"/>
            <a:ext cx="142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2205000"/>
            <a:ext cx="144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59280" y="1844640"/>
            <a:ext cx="144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59280" y="2133720"/>
            <a:ext cx="144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84360" y="3500280"/>
            <a:ext cx="14256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84360" y="3573360"/>
            <a:ext cx="7128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900000" y="4149720"/>
            <a:ext cx="21600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00000" y="4437000"/>
            <a:ext cx="21600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4437000"/>
            <a:ext cx="863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29264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4292640"/>
            <a:ext cx="7128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4941720"/>
            <a:ext cx="215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5229360"/>
            <a:ext cx="142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763280" y="5229360"/>
            <a:ext cx="14436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950080"/>
            <a:ext cx="287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5300640"/>
            <a:ext cx="142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042560" y="2349360"/>
            <a:ext cx="576360" cy="720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123640" y="2565000"/>
            <a:ext cx="7164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834920" y="2707920"/>
            <a:ext cx="14436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187280" y="2708280"/>
            <a:ext cx="14472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4360" y="2133360"/>
            <a:ext cx="35856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68360" y="1773360"/>
            <a:ext cx="574560" cy="57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220500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5280" y="1557000"/>
            <a:ext cx="504720" cy="358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55640" y="1268280"/>
            <a:ext cx="28728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19700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8360" y="1628640"/>
            <a:ext cx="21600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3640" y="1484280"/>
            <a:ext cx="14436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765000"/>
            <a:ext cx="432000" cy="142920"/>
          </a:xfrm>
          <a:custGeom>
            <a:avLst/>
            <a:gdLst>
              <a:gd name="textAreaLeft" fmla="*/ 95040 w 432000"/>
              <a:gd name="textAreaRight" fmla="*/ 336960 w 432000"/>
              <a:gd name="textAreaTop" fmla="*/ 31320 h 142920"/>
              <a:gd name="textAreaBottom" fmla="*/ 11160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836640"/>
            <a:ext cx="432000" cy="142920"/>
          </a:xfrm>
          <a:custGeom>
            <a:avLst/>
            <a:gdLst>
              <a:gd name="textAreaLeft" fmla="*/ 95040 w 432000"/>
              <a:gd name="textAreaRight" fmla="*/ 336960 w 432000"/>
              <a:gd name="textAreaTop" fmla="*/ 31320 h 142920"/>
              <a:gd name="textAreaBottom" fmla="*/ 11160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4360" y="836640"/>
            <a:ext cx="432000" cy="142920"/>
          </a:xfrm>
          <a:custGeom>
            <a:avLst/>
            <a:gdLst>
              <a:gd name="textAreaLeft" fmla="*/ 95040 w 432000"/>
              <a:gd name="textAreaRight" fmla="*/ 336960 w 432000"/>
              <a:gd name="textAreaTop" fmla="*/ 31320 h 142920"/>
              <a:gd name="textAreaBottom" fmla="*/ 11160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01080" y="765000"/>
            <a:ext cx="431640" cy="21600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у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80360" y="1197000"/>
            <a:ext cx="28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44000" y="1268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72360" y="213372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2720" y="2421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44000" y="2708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2205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278136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328464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6000" y="364500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068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328464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48720" y="364500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532720" y="3429000"/>
            <a:ext cx="7164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604360" y="436572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172360" y="450864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85080" y="364500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44000" y="3860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4720" y="40053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16720" y="4292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2000" y="443700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422100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6000" y="3500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3213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321300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6000" y="549360"/>
            <a:ext cx="5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Интерн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948360" y="6922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692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2852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2492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184464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72360" y="2060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17733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155736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8360" y="2060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6720" y="234936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263700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59280" y="285264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314172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1197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1197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59280" y="17733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1484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40360" y="321300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56536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1280" y="292428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51280" y="378936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87640" y="2205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227664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191628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989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17733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155736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141300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765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90792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112536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34136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00360" y="170028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206064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00360" y="270828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9640" y="234936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2492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160" y="1557360"/>
            <a:ext cx="79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ул. Фоменк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30520" y="3357720"/>
            <a:ext cx="714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ул. Лени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69228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69228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119700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05264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1268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1628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844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41300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155736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227664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49228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278136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328464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371628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443700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52293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80536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580536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515772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47640" y="486900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450864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407664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7640" y="407664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407664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40053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50864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0920" y="486900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0920" y="5157720"/>
            <a:ext cx="28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59:48Z</dcterms:created>
  <dc:creator>Саша</dc:creator>
  <dc:description/>
  <dc:language>en-US</dc:language>
  <cp:lastModifiedBy>www.PHILka.RU</cp:lastModifiedBy>
  <dcterms:modified xsi:type="dcterms:W3CDTF">2009-03-03T14:16:55Z</dcterms:modified>
  <cp:revision>89</cp:revision>
  <dc:subject/>
  <dc:title>Слайд 1</dc:title>
</cp:coreProperties>
</file>