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BE9-AACF-442A-82AF-BE5F8034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831-E670-41E4-9D6A-9040E4D7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683-943B-4BD6-AAA2-FE00BCD7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B2B-D1FA-4235-B66B-9C9F8163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1F7-CD00-431D-9E36-4A1CCE92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50A-22A1-4C62-9F0B-9CE90469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402-602B-4D54-8264-6CC14FDB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0B4-26A7-4212-9EF0-12F177A9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538-0CA2-43BC-8937-D74D94D2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F4D-E931-4775-9902-6816D82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03D-F090-4A8A-BA1B-5B6B7C2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39E-004A-4A82-A5C2-798BBE44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7F5-7481-47D7-A2CA-CCE733293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0"/>
            <a:ext cx="439236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хема тепловых сетей котельной  №12 с.КАБ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4120" y="928800"/>
            <a:ext cx="1728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4120" bIns="2412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37000" y="392436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нтора ПМ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45000" y="755640"/>
            <a:ext cx="6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тельна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637000" y="6732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97360" y="622764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гара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429000" y="7451640"/>
          <a:ext cx="3284640" cy="1041480"/>
        </p:xfrm>
        <a:graphic>
          <a:graphicData uri="http://schemas.openxmlformats.org/drawingml/2006/table">
            <a:tbl>
              <a:tblPr/>
              <a:tblGrid>
                <a:gridCol w="1082520"/>
                <a:gridCol w="673200"/>
                <a:gridCol w="549360"/>
                <a:gridCol w="490680"/>
                <a:gridCol w="488880"/>
              </a:tblGrid>
              <a:tr h="214560"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ой социальный фон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зда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населения, че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рудо-способ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ые дом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" name=""/>
          <p:cNvGrpSpPr/>
          <p:nvPr/>
        </p:nvGrpSpPr>
        <p:grpSpPr>
          <a:xfrm>
            <a:off x="4653000" y="1042560"/>
            <a:ext cx="576360" cy="721080"/>
            <a:chOff x="4653000" y="1042560"/>
            <a:chExt cx="576360" cy="721080"/>
          </a:xfrm>
        </p:grpSpPr>
        <p:sp>
          <p:nvSpPr>
            <p:cNvPr id="50" name=""/>
            <p:cNvSpPr/>
            <p:nvPr/>
          </p:nvSpPr>
          <p:spPr>
            <a:xfrm>
              <a:off x="4653000" y="1283040"/>
              <a:ext cx="576360" cy="480600"/>
            </a:xfrm>
            <a:prstGeom prst="flowChartManualInpu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41560" y="104256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41560" y="104292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30480" y="104292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068640" y="6300720"/>
            <a:ext cx="433440" cy="2145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73360" y="658800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0280" y="4067280"/>
            <a:ext cx="6494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6640" y="5867280"/>
            <a:ext cx="64944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76640" y="6804000"/>
            <a:ext cx="360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67920" y="1476360"/>
            <a:ext cx="576360" cy="358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84640" y="2050920"/>
            <a:ext cx="0" cy="57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4120" y="10548720"/>
            <a:ext cx="346680" cy="310320"/>
            <a:chOff x="384120" y="10548720"/>
            <a:chExt cx="346680" cy="310320"/>
          </a:xfrm>
        </p:grpSpPr>
        <p:sp>
          <p:nvSpPr>
            <p:cNvPr id="62" name=""/>
            <p:cNvSpPr/>
            <p:nvPr/>
          </p:nvSpPr>
          <p:spPr>
            <a:xfrm rot="18240600">
              <a:off x="416520" y="10531800"/>
              <a:ext cx="1800" cy="7956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94560" y="10630800"/>
              <a:ext cx="336240" cy="228240"/>
              <a:chOff x="394560" y="10630800"/>
              <a:chExt cx="336240" cy="228240"/>
            </a:xfrm>
          </p:grpSpPr>
          <p:sp>
            <p:nvSpPr>
              <p:cNvPr id="64" name=""/>
              <p:cNvSpPr/>
              <p:nvPr/>
            </p:nvSpPr>
            <p:spPr>
              <a:xfrm rot="18240600">
                <a:off x="426960" y="10613880"/>
                <a:ext cx="2160" cy="7992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67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12761400">
                <a:off x="473760" y="10670760"/>
                <a:ext cx="27360" cy="48600"/>
              </a:xfrm>
              <a:prstGeom prst="flowChartConnector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2761400">
                <a:off x="608760" y="10761120"/>
                <a:ext cx="27000" cy="48600"/>
              </a:xfrm>
              <a:prstGeom prst="flowChartConnector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8240600">
                <a:off x="552240" y="10702080"/>
                <a:ext cx="1800" cy="77400"/>
              </a:xfrm>
              <a:custGeom>
                <a:avLst/>
                <a:gdLst/>
                <a:ahLst/>
                <a:rect l="l" t="t" r="r" b="b"/>
                <a:pathLst>
                  <a:path w="1" h="65">
                    <a:moveTo>
                      <a:pt x="0" y="65"/>
                    </a:moveTo>
                    <a:lnTo>
                      <a:pt x="1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8240600">
                <a:off x="695880" y="10795680"/>
                <a:ext cx="2160" cy="79560"/>
              </a:xfrm>
              <a:custGeom>
                <a:avLst/>
                <a:gdLst/>
                <a:ahLst/>
                <a:rect l="l" t="t" r="r" b="b"/>
                <a:pathLst>
                  <a:path w="1" h="67">
                    <a:moveTo>
                      <a:pt x="0" y="67"/>
                    </a:move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4437000" y="2050920"/>
            <a:ext cx="0" cy="42498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84280" y="6012000"/>
            <a:ext cx="2952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84640" y="2050920"/>
            <a:ext cx="1295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9360" y="3564000"/>
            <a:ext cx="3887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284640" y="601200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6012000"/>
            <a:ext cx="0" cy="57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52640" y="7164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81360" y="4140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357360" y="414036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49360" y="3348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421000" y="3634920"/>
            <a:ext cx="0" cy="1297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37000" y="2050920"/>
            <a:ext cx="432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421000" y="4932360"/>
            <a:ext cx="720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69000" y="176364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941360" y="1619280"/>
            <a:ext cx="574920" cy="43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141720" y="4500360"/>
            <a:ext cx="0" cy="9349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076280" y="4716360"/>
            <a:ext cx="3603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149720" y="4427640"/>
            <a:ext cx="287280" cy="28872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69000" y="2050920"/>
            <a:ext cx="79200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37000" y="6516720"/>
            <a:ext cx="0" cy="576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133720" y="3924360"/>
            <a:ext cx="28728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9360" y="3564000"/>
            <a:ext cx="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57360" y="190800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эт. ж/д№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0640" y="125892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73360" y="248436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эт. ж/д№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84280" y="1042920"/>
            <a:ext cx="64944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эт. ж/д№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0640" y="1692360"/>
            <a:ext cx="6494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2-х кв. ж/д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9360" y="1042920"/>
            <a:ext cx="649440" cy="21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эт. ж/д№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154764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эт. ж/д№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236280" y="1693080"/>
            <a:ext cx="6494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73720" y="118728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3000" y="118728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8640" y="4140360"/>
            <a:ext cx="576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61000" y="190800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313200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16280" y="298764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81000" y="4140360"/>
            <a:ext cx="5778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280" y="3132000"/>
            <a:ext cx="6494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4280" y="313200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41720" y="3059280"/>
            <a:ext cx="6494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13000" y="3132000"/>
            <a:ext cx="6490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-х кв. ж/д №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65720" y="1907280"/>
            <a:ext cx="288360" cy="276480"/>
            <a:chOff x="4365720" y="1907280"/>
            <a:chExt cx="288360" cy="276480"/>
          </a:xfrm>
        </p:grpSpPr>
        <p:sp>
          <p:nvSpPr>
            <p:cNvPr id="111" name=""/>
            <p:cNvSpPr/>
            <p:nvPr/>
          </p:nvSpPr>
          <p:spPr>
            <a:xfrm>
              <a:off x="4365720" y="198432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6360" y="190728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143160" y="3418560"/>
            <a:ext cx="330120" cy="276480"/>
            <a:chOff x="3143160" y="3418560"/>
            <a:chExt cx="330120" cy="276480"/>
          </a:xfrm>
        </p:grpSpPr>
        <p:sp>
          <p:nvSpPr>
            <p:cNvPr id="114" name=""/>
            <p:cNvSpPr/>
            <p:nvPr/>
          </p:nvSpPr>
          <p:spPr>
            <a:xfrm>
              <a:off x="3153960" y="3506760"/>
              <a:ext cx="94320" cy="9216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43160" y="3418560"/>
              <a:ext cx="33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516640" y="971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29360" y="971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60640" y="4427640"/>
            <a:ext cx="287280" cy="503280"/>
          </a:xfrm>
          <a:prstGeom prst="flowChartMagneticDisk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25360" y="4427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Водонапорная башн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41360" y="4788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5000" y="4932360"/>
            <a:ext cx="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797360" y="1907280"/>
            <a:ext cx="289080" cy="276480"/>
            <a:chOff x="4797360" y="1907280"/>
            <a:chExt cx="289080" cy="276480"/>
          </a:xfrm>
        </p:grpSpPr>
        <p:sp>
          <p:nvSpPr>
            <p:cNvPr id="123" name=""/>
            <p:cNvSpPr/>
            <p:nvPr/>
          </p:nvSpPr>
          <p:spPr>
            <a:xfrm>
              <a:off x="4797360" y="198432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190728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5516640" y="1619280"/>
            <a:ext cx="936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61000" y="1403280"/>
            <a:ext cx="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37360" y="140328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868640" y="2050560"/>
            <a:ext cx="36036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45000" y="1475640"/>
            <a:ext cx="289080" cy="276480"/>
            <a:chOff x="5445000" y="1475640"/>
            <a:chExt cx="289080" cy="276480"/>
          </a:xfrm>
        </p:grpSpPr>
        <p:sp>
          <p:nvSpPr>
            <p:cNvPr id="130" name=""/>
            <p:cNvSpPr/>
            <p:nvPr/>
          </p:nvSpPr>
          <p:spPr>
            <a:xfrm>
              <a:off x="5445000" y="155268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26000" y="147564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213000" y="2483640"/>
            <a:ext cx="289080" cy="276480"/>
            <a:chOff x="3213000" y="2483640"/>
            <a:chExt cx="289080" cy="276480"/>
          </a:xfrm>
        </p:grpSpPr>
        <p:sp>
          <p:nvSpPr>
            <p:cNvPr id="133" name=""/>
            <p:cNvSpPr/>
            <p:nvPr/>
          </p:nvSpPr>
          <p:spPr>
            <a:xfrm>
              <a:off x="3213000" y="256068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94000" y="248364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13000" y="1907280"/>
            <a:ext cx="289080" cy="276480"/>
            <a:chOff x="3213000" y="1907280"/>
            <a:chExt cx="289080" cy="276480"/>
          </a:xfrm>
        </p:grpSpPr>
        <p:sp>
          <p:nvSpPr>
            <p:cNvPr id="136" name=""/>
            <p:cNvSpPr/>
            <p:nvPr/>
          </p:nvSpPr>
          <p:spPr>
            <a:xfrm>
              <a:off x="3213000" y="198432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94000" y="190728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997360" y="4284720"/>
            <a:ext cx="360360" cy="21600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9360" y="2340000"/>
            <a:ext cx="3585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284640" y="1763640"/>
            <a:ext cx="28872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84640" y="1476360"/>
            <a:ext cx="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44640" y="1476360"/>
            <a:ext cx="0" cy="4316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84640" y="2627280"/>
            <a:ext cx="2887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37000" y="1258920"/>
            <a:ext cx="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44640" y="1258920"/>
            <a:ext cx="0" cy="2174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267920" y="1402920"/>
            <a:ext cx="576360" cy="730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44640" y="1476360"/>
            <a:ext cx="1441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65360" y="1331280"/>
            <a:ext cx="289080" cy="276480"/>
            <a:chOff x="2565360" y="1331280"/>
            <a:chExt cx="289080" cy="276480"/>
          </a:xfrm>
        </p:grpSpPr>
        <p:sp>
          <p:nvSpPr>
            <p:cNvPr id="149" name=""/>
            <p:cNvSpPr/>
            <p:nvPr/>
          </p:nvSpPr>
          <p:spPr>
            <a:xfrm>
              <a:off x="2565360" y="140832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46360" y="133128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773360" y="1331280"/>
            <a:ext cx="288360" cy="276480"/>
            <a:chOff x="1773360" y="1331280"/>
            <a:chExt cx="288360" cy="276480"/>
          </a:xfrm>
        </p:grpSpPr>
        <p:sp>
          <p:nvSpPr>
            <p:cNvPr id="152" name=""/>
            <p:cNvSpPr/>
            <p:nvPr/>
          </p:nvSpPr>
          <p:spPr>
            <a:xfrm>
              <a:off x="1773360" y="140832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54000" y="133128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365720" y="3418560"/>
            <a:ext cx="288360" cy="276480"/>
            <a:chOff x="4365720" y="3418560"/>
            <a:chExt cx="288360" cy="276480"/>
          </a:xfrm>
        </p:grpSpPr>
        <p:sp>
          <p:nvSpPr>
            <p:cNvPr id="155" name=""/>
            <p:cNvSpPr/>
            <p:nvPr/>
          </p:nvSpPr>
          <p:spPr>
            <a:xfrm>
              <a:off x="4365720" y="349560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46360" y="341856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349360" y="3418560"/>
            <a:ext cx="289080" cy="276480"/>
            <a:chOff x="2349360" y="3418560"/>
            <a:chExt cx="289080" cy="276480"/>
          </a:xfrm>
        </p:grpSpPr>
        <p:sp>
          <p:nvSpPr>
            <p:cNvPr id="158" name=""/>
            <p:cNvSpPr/>
            <p:nvPr/>
          </p:nvSpPr>
          <p:spPr>
            <a:xfrm>
              <a:off x="2349360" y="349560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0360" y="341856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28640" y="3418560"/>
            <a:ext cx="289080" cy="276480"/>
            <a:chOff x="1628640" y="3418560"/>
            <a:chExt cx="289080" cy="276480"/>
          </a:xfrm>
        </p:grpSpPr>
        <p:sp>
          <p:nvSpPr>
            <p:cNvPr id="161" name=""/>
            <p:cNvSpPr/>
            <p:nvPr/>
          </p:nvSpPr>
          <p:spPr>
            <a:xfrm>
              <a:off x="1628640" y="349560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09640" y="341856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6280" y="3418560"/>
            <a:ext cx="288360" cy="276480"/>
            <a:chOff x="476280" y="3418560"/>
            <a:chExt cx="288360" cy="276480"/>
          </a:xfrm>
        </p:grpSpPr>
        <p:sp>
          <p:nvSpPr>
            <p:cNvPr id="164" name=""/>
            <p:cNvSpPr/>
            <p:nvPr/>
          </p:nvSpPr>
          <p:spPr>
            <a:xfrm>
              <a:off x="476280" y="349560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920" y="341856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365720" y="4571280"/>
            <a:ext cx="288360" cy="276480"/>
            <a:chOff x="4365720" y="4571280"/>
            <a:chExt cx="288360" cy="276480"/>
          </a:xfrm>
        </p:grpSpPr>
        <p:sp>
          <p:nvSpPr>
            <p:cNvPr id="167" name=""/>
            <p:cNvSpPr/>
            <p:nvPr/>
          </p:nvSpPr>
          <p:spPr>
            <a:xfrm>
              <a:off x="4365720" y="464832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6360" y="457128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 flipV="1">
            <a:off x="4149720" y="3203280"/>
            <a:ext cx="28728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37000" y="3203640"/>
            <a:ext cx="504720" cy="360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076280" y="3419640"/>
            <a:ext cx="3589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213000" y="3348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421000" y="3348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700280" y="334800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267920" y="3924360"/>
            <a:ext cx="8636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9360" y="327672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773360" y="3924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68280" y="3924360"/>
            <a:ext cx="0" cy="216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421000" y="5580000"/>
            <a:ext cx="5032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205000" y="5292720"/>
            <a:ext cx="216000" cy="287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16280" y="4572000"/>
            <a:ext cx="36036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33720" y="421164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24280" y="543564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068640" y="4787280"/>
            <a:ext cx="289080" cy="276480"/>
            <a:chOff x="3068640" y="4787280"/>
            <a:chExt cx="289080" cy="276480"/>
          </a:xfrm>
        </p:grpSpPr>
        <p:sp>
          <p:nvSpPr>
            <p:cNvPr id="185" name=""/>
            <p:cNvSpPr/>
            <p:nvPr/>
          </p:nvSpPr>
          <p:spPr>
            <a:xfrm>
              <a:off x="3068640" y="486432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49640" y="478728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49360" y="5434920"/>
            <a:ext cx="289080" cy="276480"/>
            <a:chOff x="2349360" y="5434920"/>
            <a:chExt cx="289080" cy="276480"/>
          </a:xfrm>
        </p:grpSpPr>
        <p:sp>
          <p:nvSpPr>
            <p:cNvPr id="188" name=""/>
            <p:cNvSpPr/>
            <p:nvPr/>
          </p:nvSpPr>
          <p:spPr>
            <a:xfrm>
              <a:off x="2349360" y="551196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0360" y="543492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133720" y="5147640"/>
            <a:ext cx="288360" cy="276480"/>
            <a:chOff x="2133720" y="5147640"/>
            <a:chExt cx="288360" cy="276480"/>
          </a:xfrm>
        </p:grpSpPr>
        <p:sp>
          <p:nvSpPr>
            <p:cNvPr id="191" name=""/>
            <p:cNvSpPr/>
            <p:nvPr/>
          </p:nvSpPr>
          <p:spPr>
            <a:xfrm>
              <a:off x="2133720" y="522468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14360" y="514764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365720" y="5866560"/>
            <a:ext cx="288360" cy="276480"/>
            <a:chOff x="4365720" y="5866560"/>
            <a:chExt cx="288360" cy="276480"/>
          </a:xfrm>
        </p:grpSpPr>
        <p:sp>
          <p:nvSpPr>
            <p:cNvPr id="194" name=""/>
            <p:cNvSpPr/>
            <p:nvPr/>
          </p:nvSpPr>
          <p:spPr>
            <a:xfrm>
              <a:off x="4365720" y="594360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46360" y="586656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13000" y="5866560"/>
            <a:ext cx="289080" cy="276480"/>
            <a:chOff x="3213000" y="5866560"/>
            <a:chExt cx="289080" cy="276480"/>
          </a:xfrm>
        </p:grpSpPr>
        <p:sp>
          <p:nvSpPr>
            <p:cNvPr id="197" name=""/>
            <p:cNvSpPr/>
            <p:nvPr/>
          </p:nvSpPr>
          <p:spPr>
            <a:xfrm>
              <a:off x="3213000" y="5943600"/>
              <a:ext cx="11304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94000" y="5866560"/>
              <a:ext cx="20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060640" y="5866560"/>
            <a:ext cx="288360" cy="276480"/>
            <a:chOff x="2060640" y="5866560"/>
            <a:chExt cx="288360" cy="276480"/>
          </a:xfrm>
        </p:grpSpPr>
        <p:sp>
          <p:nvSpPr>
            <p:cNvPr id="200" name=""/>
            <p:cNvSpPr/>
            <p:nvPr/>
          </p:nvSpPr>
          <p:spPr>
            <a:xfrm>
              <a:off x="2060640" y="5943600"/>
              <a:ext cx="112680" cy="10800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41280" y="5866560"/>
              <a:ext cx="20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221000" y="6300720"/>
            <a:ext cx="433440" cy="21456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8280" y="651672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гара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141720" y="6516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21000" y="7093080"/>
            <a:ext cx="433440" cy="214200"/>
          </a:xfrm>
          <a:prstGeom prst="flowChartInternalStora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16280" y="665964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653000" y="644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7360" y="694836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скла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4:59:48Z</dcterms:created>
  <dc:creator>Саша</dc:creator>
  <dc:description/>
  <dc:language>en-US</dc:language>
  <cp:lastModifiedBy>1</cp:lastModifiedBy>
  <dcterms:modified xsi:type="dcterms:W3CDTF">2014-12-03T03:26:56Z</dcterms:modified>
  <cp:revision>77</cp:revision>
  <dc:subject/>
  <dc:title>Слайд 1</dc:title>
</cp:coreProperties>
</file>