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9291-8A6A-4ED1-825A-B026F62E0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3B1D-3031-453D-821F-7337599F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3265-B32D-4EBE-9FD8-9FBC389B1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1F4D-D4D5-489D-91E1-7BE734249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83B3-0EF5-48F5-BD99-C52DE135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AC15-B3C5-4C34-A185-7AE21018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CFB6-7824-49CF-A8F1-D27033BC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9D74-B899-4F6B-A777-D4AD6E30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9732-EEB6-45DC-A70A-513FAAED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13BD-1FBC-4148-8786-F58025D7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83DC-2970-4344-94AA-6350591B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902F-D3E5-4A95-A2EC-0718E934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7B36-98C1-44DD-88AC-E4E5C01E0C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03640" y="4365720"/>
            <a:ext cx="576360" cy="1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Котельная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68560" y="1219320"/>
            <a:ext cx="214200" cy="1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48040" y="1260360"/>
            <a:ext cx="318960" cy="1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03640" y="4581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3058560" y="4292640"/>
            <a:ext cx="144360" cy="287280"/>
          </a:xfrm>
          <a:custGeom>
            <a:avLst/>
            <a:gdLst/>
            <a:ahLst/>
            <a:rect l="l" t="t" r="r" b="b"/>
            <a:pathLst>
              <a:path w="62" h="197">
                <a:moveTo>
                  <a:pt x="0" y="0"/>
                </a:moveTo>
                <a:lnTo>
                  <a:pt x="62" y="19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12000" y="4653000"/>
            <a:ext cx="790560" cy="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Гараж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280" y="5410080"/>
          <a:ext cx="3733920" cy="1062000"/>
        </p:xfrm>
        <a:graphic>
          <a:graphicData uri="http://schemas.openxmlformats.org/drawingml/2006/table">
            <a:tbl>
              <a:tblPr/>
              <a:tblGrid>
                <a:gridCol w="990720"/>
                <a:gridCol w="838080"/>
                <a:gridCol w="685800"/>
                <a:gridCol w="609840"/>
                <a:gridCol w="609480"/>
              </a:tblGrid>
              <a:tr h="198360">
                <a:tc rowSpan="2"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ой социальный фон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здан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населения, чел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зросл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т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рудо-способ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ые дом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 flipH="1">
            <a:off x="3563640" y="4076640"/>
            <a:ext cx="57636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580000" y="3141720"/>
            <a:ext cx="72072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140000" y="3141720"/>
            <a:ext cx="1439640" cy="9349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4140360" y="4076640"/>
            <a:ext cx="1295280" cy="7207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836360" y="4510080"/>
            <a:ext cx="0" cy="144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5580000" y="2060640"/>
            <a:ext cx="216000" cy="10810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62560" y="-2619360"/>
            <a:ext cx="0" cy="144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2060640"/>
            <a:ext cx="72072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54560" y="-5643720"/>
            <a:ext cx="0" cy="1447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43280" y="3860640"/>
            <a:ext cx="718920" cy="430200"/>
          </a:xfrm>
          <a:prstGeom prst="flowChartManualInpu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059280" y="3644640"/>
            <a:ext cx="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59280" y="3645000"/>
            <a:ext cx="11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03640" y="3645000"/>
            <a:ext cx="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11280" y="189000"/>
            <a:ext cx="489744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хема тепловых сетей Кабельного участка №8 с. Кабан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796000" y="2996280"/>
            <a:ext cx="288720" cy="307080"/>
            <a:chOff x="5796000" y="2996280"/>
            <a:chExt cx="288720" cy="307080"/>
          </a:xfrm>
        </p:grpSpPr>
        <p:sp>
          <p:nvSpPr>
            <p:cNvPr id="64" name=""/>
            <p:cNvSpPr/>
            <p:nvPr/>
          </p:nvSpPr>
          <p:spPr>
            <a:xfrm>
              <a:off x="5796000" y="3075840"/>
              <a:ext cx="106560" cy="12816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56120" y="299628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5435640" y="4653000"/>
            <a:ext cx="431640" cy="28728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516720" y="1916280"/>
            <a:ext cx="64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2-х 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643280" y="4219920"/>
            <a:ext cx="288720" cy="307080"/>
            <a:chOff x="4643280" y="4219920"/>
            <a:chExt cx="288720" cy="307080"/>
          </a:xfrm>
        </p:grpSpPr>
        <p:sp>
          <p:nvSpPr>
            <p:cNvPr id="69" name=""/>
            <p:cNvSpPr/>
            <p:nvPr/>
          </p:nvSpPr>
          <p:spPr>
            <a:xfrm>
              <a:off x="4643280" y="4299840"/>
              <a:ext cx="106920" cy="12816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703400" y="42199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940360" y="1915200"/>
            <a:ext cx="288720" cy="307080"/>
            <a:chOff x="5940360" y="1915200"/>
            <a:chExt cx="288720" cy="307080"/>
          </a:xfrm>
        </p:grpSpPr>
        <p:sp>
          <p:nvSpPr>
            <p:cNvPr id="72" name=""/>
            <p:cNvSpPr/>
            <p:nvPr/>
          </p:nvSpPr>
          <p:spPr>
            <a:xfrm>
              <a:off x="5940360" y="1994760"/>
              <a:ext cx="106920" cy="12816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000480" y="19152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6804000" y="2997360"/>
            <a:ext cx="647640" cy="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Контора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866920" y="4797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2997360"/>
            <a:ext cx="432000" cy="28728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732720" y="3141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04:59:48Z</dcterms:created>
  <dc:creator>Саша</dc:creator>
  <dc:description/>
  <dc:language>en-US</dc:language>
  <cp:lastModifiedBy>Администратор</cp:lastModifiedBy>
  <dcterms:modified xsi:type="dcterms:W3CDTF">2009-02-06T06:17:51Z</dcterms:modified>
  <cp:revision>72</cp:revision>
  <dc:subject/>
  <dc:title>Слайд 1</dc:title>
</cp:coreProperties>
</file>