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B39-A4B3-413B-86D4-75585743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F25-AFE1-4643-9698-91C2650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95E-C1DE-4495-886A-3F64D491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DB3-32E7-4F2C-BF6B-CA2761D8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ED0-37C0-48D5-8E38-2CF49EFC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B8B-3DEB-41E2-8859-CE66208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03A-A7E0-459F-9B83-E22BEC93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ABB-14CE-4362-8DA7-A9E84A25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741-F9B0-4A7D-AE38-4C9B08F4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B68-BDAF-4D1D-8F37-2E28C30A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AD7-004B-4C0E-9C0E-1C225465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EDD-A038-454A-B193-410A97AB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901B-4921-4247-A02A-C5C00D5FF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08720" y="2924280"/>
            <a:ext cx="50472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68560" y="1219320"/>
            <a:ext cx="214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8040" y="1260360"/>
            <a:ext cx="31896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95008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580000" y="306864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5410080"/>
          <a:ext cx="3733920" cy="111456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685800"/>
                <a:gridCol w="609840"/>
                <a:gridCol w="609480"/>
              </a:tblGrid>
              <a:tr h="19872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877080" y="3429000"/>
            <a:ext cx="20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700360" y="4869000"/>
            <a:ext cx="21600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486900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1125360"/>
            <a:ext cx="730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3645000"/>
            <a:ext cx="1297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292720" y="3357720"/>
            <a:ext cx="503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86920" y="3860640"/>
            <a:ext cx="71640" cy="1297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5229360"/>
            <a:ext cx="43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58920" y="3860640"/>
            <a:ext cx="4176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2349360"/>
            <a:ext cx="287640" cy="1081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869000"/>
            <a:ext cx="0" cy="361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35640" y="2852640"/>
            <a:ext cx="0" cy="201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637000"/>
            <a:ext cx="1513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634920" y="5300280"/>
            <a:ext cx="79236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16360" y="4869000"/>
            <a:ext cx="2519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4076640"/>
            <a:ext cx="287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3429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349360"/>
            <a:ext cx="2303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645000"/>
            <a:ext cx="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427640" y="5373720"/>
            <a:ext cx="3457440" cy="71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732360" y="3429000"/>
            <a:ext cx="14436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522936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3068640"/>
            <a:ext cx="719280" cy="430200"/>
          </a:xfrm>
          <a:prstGeom prst="flowChartManualInpu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3141720"/>
            <a:ext cx="142920" cy="2887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189000"/>
            <a:ext cx="43927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2 с. 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64000" y="3715200"/>
            <a:ext cx="288720" cy="307080"/>
            <a:chOff x="5364000" y="3715200"/>
            <a:chExt cx="288720" cy="307080"/>
          </a:xfrm>
        </p:grpSpPr>
        <p:sp>
          <p:nvSpPr>
            <p:cNvPr id="74" name=""/>
            <p:cNvSpPr/>
            <p:nvPr/>
          </p:nvSpPr>
          <p:spPr>
            <a:xfrm>
              <a:off x="5364000" y="3814560"/>
              <a:ext cx="106920" cy="932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24120" y="3715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64000" y="4739040"/>
            <a:ext cx="288720" cy="307080"/>
            <a:chOff x="5364000" y="4739040"/>
            <a:chExt cx="288720" cy="307080"/>
          </a:xfrm>
        </p:grpSpPr>
        <p:sp>
          <p:nvSpPr>
            <p:cNvPr id="77" name=""/>
            <p:cNvSpPr/>
            <p:nvPr/>
          </p:nvSpPr>
          <p:spPr>
            <a:xfrm>
              <a:off x="5364000" y="4844160"/>
              <a:ext cx="106920" cy="824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24120" y="473904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35640" y="5950080"/>
            <a:ext cx="50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50508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16360" y="5950080"/>
            <a:ext cx="576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04000" y="5013360"/>
            <a:ext cx="50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5013360"/>
            <a:ext cx="57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508640"/>
            <a:ext cx="57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00720" y="4221000"/>
            <a:ext cx="5778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227640" y="5228280"/>
            <a:ext cx="287280" cy="307080"/>
            <a:chOff x="6227640" y="5228280"/>
            <a:chExt cx="287280" cy="307080"/>
          </a:xfrm>
        </p:grpSpPr>
        <p:sp>
          <p:nvSpPr>
            <p:cNvPr id="87" name=""/>
            <p:cNvSpPr/>
            <p:nvPr/>
          </p:nvSpPr>
          <p:spPr>
            <a:xfrm>
              <a:off x="6227640" y="5332320"/>
              <a:ext cx="106200" cy="86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88120" y="5228280"/>
              <a:ext cx="22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788000" y="2924280"/>
            <a:ext cx="647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Водонапорная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баш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0847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27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292640"/>
            <a:ext cx="287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458136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86900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15772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0000" y="306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356000" y="4723200"/>
            <a:ext cx="288720" cy="307080"/>
            <a:chOff x="4356000" y="4723200"/>
            <a:chExt cx="288720" cy="307080"/>
          </a:xfrm>
        </p:grpSpPr>
        <p:sp>
          <p:nvSpPr>
            <p:cNvPr id="99" name=""/>
            <p:cNvSpPr/>
            <p:nvPr/>
          </p:nvSpPr>
          <p:spPr>
            <a:xfrm>
              <a:off x="4356000" y="4822560"/>
              <a:ext cx="106920" cy="932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6120" y="47232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87280" y="3931200"/>
            <a:ext cx="287640" cy="307080"/>
            <a:chOff x="1187280" y="3931200"/>
            <a:chExt cx="287640" cy="307080"/>
          </a:xfrm>
        </p:grpSpPr>
        <p:sp>
          <p:nvSpPr>
            <p:cNvPr id="102" name=""/>
            <p:cNvSpPr/>
            <p:nvPr/>
          </p:nvSpPr>
          <p:spPr>
            <a:xfrm>
              <a:off x="1187280" y="403416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36960" y="393120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084720" y="5588640"/>
            <a:ext cx="288720" cy="307080"/>
            <a:chOff x="6084720" y="5588640"/>
            <a:chExt cx="288720" cy="307080"/>
          </a:xfrm>
        </p:grpSpPr>
        <p:sp>
          <p:nvSpPr>
            <p:cNvPr id="105" name=""/>
            <p:cNvSpPr/>
            <p:nvPr/>
          </p:nvSpPr>
          <p:spPr>
            <a:xfrm>
              <a:off x="6084720" y="5688000"/>
              <a:ext cx="106920" cy="92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44840" y="558864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356000" y="5299560"/>
            <a:ext cx="288720" cy="307080"/>
            <a:chOff x="4356000" y="5299560"/>
            <a:chExt cx="288720" cy="307080"/>
          </a:xfrm>
        </p:grpSpPr>
        <p:sp>
          <p:nvSpPr>
            <p:cNvPr id="108" name=""/>
            <p:cNvSpPr/>
            <p:nvPr/>
          </p:nvSpPr>
          <p:spPr>
            <a:xfrm>
              <a:off x="4356000" y="5398920"/>
              <a:ext cx="106920" cy="932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6120" y="529956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64000" y="4004280"/>
            <a:ext cx="288720" cy="307080"/>
            <a:chOff x="5364000" y="4004280"/>
            <a:chExt cx="288720" cy="307080"/>
          </a:xfrm>
        </p:grpSpPr>
        <p:sp>
          <p:nvSpPr>
            <p:cNvPr id="111" name=""/>
            <p:cNvSpPr/>
            <p:nvPr/>
          </p:nvSpPr>
          <p:spPr>
            <a:xfrm>
              <a:off x="5364000" y="4103640"/>
              <a:ext cx="106920" cy="928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24120" y="40042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4140000" y="3860640"/>
            <a:ext cx="64764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716280"/>
            <a:ext cx="21600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3357720"/>
            <a:ext cx="0" cy="50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3645000"/>
            <a:ext cx="28728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76360" y="4149720"/>
            <a:ext cx="35892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31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530064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5157720"/>
            <a:ext cx="712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5080" y="515772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15772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27640" y="5157720"/>
            <a:ext cx="730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3645000"/>
            <a:ext cx="79200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03640" y="5734080"/>
            <a:ext cx="1152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156000" y="5373720"/>
            <a:ext cx="14436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573408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573408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56000" y="587700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609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221000"/>
            <a:ext cx="215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653000"/>
            <a:ext cx="647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рыбоохра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5084640"/>
            <a:ext cx="576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ветстанц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028000" y="3284640"/>
            <a:ext cx="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67640" y="321300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342900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59640" y="3068640"/>
            <a:ext cx="0" cy="64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93080" y="3284640"/>
            <a:ext cx="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1916280"/>
            <a:ext cx="144360" cy="43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2349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1989000"/>
            <a:ext cx="28728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443280" y="2060640"/>
            <a:ext cx="360360" cy="50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3080" y="2997360"/>
            <a:ext cx="7128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164360" y="2565360"/>
            <a:ext cx="287280" cy="863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88000" y="1916280"/>
            <a:ext cx="358560" cy="72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011640" y="1267920"/>
            <a:ext cx="86508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19640" y="1268280"/>
            <a:ext cx="792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90792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268280"/>
            <a:ext cx="0" cy="64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877080" y="1125360"/>
            <a:ext cx="5032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11640" y="1052640"/>
            <a:ext cx="144360" cy="215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851280" y="2781360"/>
            <a:ext cx="43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2349360"/>
            <a:ext cx="0" cy="432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268280"/>
            <a:ext cx="36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59280" y="1700280"/>
            <a:ext cx="28908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59280" y="2349360"/>
            <a:ext cx="43344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2205000"/>
            <a:ext cx="21600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360" y="2349360"/>
            <a:ext cx="71280" cy="28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2637000"/>
            <a:ext cx="57456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6000" y="907920"/>
            <a:ext cx="21600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32000" y="249228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76720" y="2349360"/>
            <a:ext cx="287280" cy="287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627280" y="90792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50920" y="2421000"/>
            <a:ext cx="7308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7280" y="1484280"/>
            <a:ext cx="57636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27280" y="1341000"/>
            <a:ext cx="432000" cy="142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26920" y="907920"/>
            <a:ext cx="28908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1268280"/>
            <a:ext cx="0" cy="792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060640"/>
            <a:ext cx="7308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2492280"/>
            <a:ext cx="0" cy="144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844640"/>
            <a:ext cx="35892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1557360"/>
            <a:ext cx="50472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3640" y="1557360"/>
            <a:ext cx="504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1557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564000" y="364500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360" y="2637000"/>
            <a:ext cx="28728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16000" y="2276640"/>
            <a:ext cx="64764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2421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292360" y="522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227640" y="4797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528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4941720"/>
            <a:ext cx="792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Вет. лаборатор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268360" y="4437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436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292640"/>
            <a:ext cx="576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юстиц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843280" y="762480"/>
            <a:ext cx="287280" cy="307080"/>
            <a:chOff x="2843280" y="762480"/>
            <a:chExt cx="287280" cy="307080"/>
          </a:xfrm>
        </p:grpSpPr>
        <p:sp>
          <p:nvSpPr>
            <p:cNvPr id="189" name=""/>
            <p:cNvSpPr/>
            <p:nvPr/>
          </p:nvSpPr>
          <p:spPr>
            <a:xfrm>
              <a:off x="2843280" y="865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2960" y="7624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124000" y="3713760"/>
            <a:ext cx="287280" cy="307080"/>
            <a:chOff x="2124000" y="3713760"/>
            <a:chExt cx="287280" cy="307080"/>
          </a:xfrm>
        </p:grpSpPr>
        <p:sp>
          <p:nvSpPr>
            <p:cNvPr id="192" name=""/>
            <p:cNvSpPr/>
            <p:nvPr/>
          </p:nvSpPr>
          <p:spPr>
            <a:xfrm>
              <a:off x="2124000" y="3816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73680" y="3713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708360" y="3713760"/>
            <a:ext cx="287280" cy="307080"/>
            <a:chOff x="3708360" y="3713760"/>
            <a:chExt cx="287280" cy="307080"/>
          </a:xfrm>
        </p:grpSpPr>
        <p:sp>
          <p:nvSpPr>
            <p:cNvPr id="195" name=""/>
            <p:cNvSpPr/>
            <p:nvPr/>
          </p:nvSpPr>
          <p:spPr>
            <a:xfrm>
              <a:off x="3708360" y="3816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58040" y="3713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716360" y="3713760"/>
            <a:ext cx="287280" cy="307080"/>
            <a:chOff x="4716360" y="3713760"/>
            <a:chExt cx="287280" cy="307080"/>
          </a:xfrm>
        </p:grpSpPr>
        <p:sp>
          <p:nvSpPr>
            <p:cNvPr id="198" name=""/>
            <p:cNvSpPr/>
            <p:nvPr/>
          </p:nvSpPr>
          <p:spPr>
            <a:xfrm>
              <a:off x="4716360" y="3816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6040" y="3713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116000" y="5010840"/>
            <a:ext cx="287280" cy="307080"/>
            <a:chOff x="1116000" y="5010840"/>
            <a:chExt cx="287280" cy="307080"/>
          </a:xfrm>
        </p:grpSpPr>
        <p:sp>
          <p:nvSpPr>
            <p:cNvPr id="201" name=""/>
            <p:cNvSpPr/>
            <p:nvPr/>
          </p:nvSpPr>
          <p:spPr>
            <a:xfrm>
              <a:off x="1116000" y="511380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65680" y="50108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187280" y="4721760"/>
            <a:ext cx="287640" cy="307080"/>
            <a:chOff x="1187280" y="4721760"/>
            <a:chExt cx="287640" cy="307080"/>
          </a:xfrm>
        </p:grpSpPr>
        <p:sp>
          <p:nvSpPr>
            <p:cNvPr id="204" name=""/>
            <p:cNvSpPr/>
            <p:nvPr/>
          </p:nvSpPr>
          <p:spPr>
            <a:xfrm>
              <a:off x="1187280" y="4824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6960" y="472176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187280" y="4434480"/>
            <a:ext cx="287640" cy="307080"/>
            <a:chOff x="1187280" y="4434480"/>
            <a:chExt cx="287640" cy="307080"/>
          </a:xfrm>
        </p:grpSpPr>
        <p:sp>
          <p:nvSpPr>
            <p:cNvPr id="207" name=""/>
            <p:cNvSpPr/>
            <p:nvPr/>
          </p:nvSpPr>
          <p:spPr>
            <a:xfrm>
              <a:off x="1187280" y="4537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6960" y="443448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87280" y="4147200"/>
            <a:ext cx="287640" cy="307080"/>
            <a:chOff x="1187280" y="4147200"/>
            <a:chExt cx="287640" cy="307080"/>
          </a:xfrm>
        </p:grpSpPr>
        <p:sp>
          <p:nvSpPr>
            <p:cNvPr id="210" name=""/>
            <p:cNvSpPr/>
            <p:nvPr/>
          </p:nvSpPr>
          <p:spPr>
            <a:xfrm>
              <a:off x="1187280" y="425016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6960" y="414720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516720" y="2202480"/>
            <a:ext cx="287280" cy="307080"/>
            <a:chOff x="6516720" y="2202480"/>
            <a:chExt cx="287280" cy="307080"/>
          </a:xfrm>
        </p:grpSpPr>
        <p:sp>
          <p:nvSpPr>
            <p:cNvPr id="213" name=""/>
            <p:cNvSpPr/>
            <p:nvPr/>
          </p:nvSpPr>
          <p:spPr>
            <a:xfrm>
              <a:off x="6516720" y="2305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66400" y="22024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093080" y="3282120"/>
            <a:ext cx="287280" cy="307080"/>
            <a:chOff x="7093080" y="3282120"/>
            <a:chExt cx="287280" cy="307080"/>
          </a:xfrm>
        </p:grpSpPr>
        <p:sp>
          <p:nvSpPr>
            <p:cNvPr id="216" name=""/>
            <p:cNvSpPr/>
            <p:nvPr/>
          </p:nvSpPr>
          <p:spPr>
            <a:xfrm>
              <a:off x="7093080" y="338508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2760" y="328212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804000" y="3282120"/>
            <a:ext cx="287280" cy="307080"/>
            <a:chOff x="6804000" y="3282120"/>
            <a:chExt cx="287280" cy="307080"/>
          </a:xfrm>
        </p:grpSpPr>
        <p:sp>
          <p:nvSpPr>
            <p:cNvPr id="219" name=""/>
            <p:cNvSpPr/>
            <p:nvPr/>
          </p:nvSpPr>
          <p:spPr>
            <a:xfrm>
              <a:off x="6804000" y="338508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3680" y="328212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364000" y="3497760"/>
            <a:ext cx="287640" cy="307080"/>
            <a:chOff x="5364000" y="3497760"/>
            <a:chExt cx="287640" cy="307080"/>
          </a:xfrm>
        </p:grpSpPr>
        <p:sp>
          <p:nvSpPr>
            <p:cNvPr id="222" name=""/>
            <p:cNvSpPr/>
            <p:nvPr/>
          </p:nvSpPr>
          <p:spPr>
            <a:xfrm>
              <a:off x="5364000" y="3600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13680" y="349776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763640" y="2489760"/>
            <a:ext cx="287280" cy="307080"/>
            <a:chOff x="1763640" y="2489760"/>
            <a:chExt cx="287280" cy="307080"/>
          </a:xfrm>
        </p:grpSpPr>
        <p:sp>
          <p:nvSpPr>
            <p:cNvPr id="225" name=""/>
            <p:cNvSpPr/>
            <p:nvPr/>
          </p:nvSpPr>
          <p:spPr>
            <a:xfrm>
              <a:off x="1763640" y="2592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13320" y="2489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276720" y="2489760"/>
            <a:ext cx="287280" cy="307080"/>
            <a:chOff x="3276720" y="2489760"/>
            <a:chExt cx="287280" cy="307080"/>
          </a:xfrm>
        </p:grpSpPr>
        <p:sp>
          <p:nvSpPr>
            <p:cNvPr id="228" name=""/>
            <p:cNvSpPr/>
            <p:nvPr/>
          </p:nvSpPr>
          <p:spPr>
            <a:xfrm>
              <a:off x="3276720" y="2592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26400" y="2489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0000" y="2634120"/>
            <a:ext cx="287280" cy="307080"/>
            <a:chOff x="3780000" y="2634120"/>
            <a:chExt cx="287280" cy="307080"/>
          </a:xfrm>
        </p:grpSpPr>
        <p:sp>
          <p:nvSpPr>
            <p:cNvPr id="231" name=""/>
            <p:cNvSpPr/>
            <p:nvPr/>
          </p:nvSpPr>
          <p:spPr>
            <a:xfrm>
              <a:off x="3780000" y="2737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9680" y="263412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219640" y="2202480"/>
            <a:ext cx="287280" cy="307080"/>
            <a:chOff x="5219640" y="2202480"/>
            <a:chExt cx="287280" cy="307080"/>
          </a:xfrm>
        </p:grpSpPr>
        <p:sp>
          <p:nvSpPr>
            <p:cNvPr id="234" name=""/>
            <p:cNvSpPr/>
            <p:nvPr/>
          </p:nvSpPr>
          <p:spPr>
            <a:xfrm>
              <a:off x="5219640" y="2305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9320" y="22024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76720" y="1122840"/>
            <a:ext cx="287280" cy="307080"/>
            <a:chOff x="5076720" y="1122840"/>
            <a:chExt cx="287280" cy="307080"/>
          </a:xfrm>
        </p:grpSpPr>
        <p:sp>
          <p:nvSpPr>
            <p:cNvPr id="237" name=""/>
            <p:cNvSpPr/>
            <p:nvPr/>
          </p:nvSpPr>
          <p:spPr>
            <a:xfrm>
              <a:off x="5076720" y="122580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26400" y="11228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076720" y="1770840"/>
            <a:ext cx="287280" cy="307080"/>
            <a:chOff x="5076720" y="1770840"/>
            <a:chExt cx="287280" cy="307080"/>
          </a:xfrm>
        </p:grpSpPr>
        <p:sp>
          <p:nvSpPr>
            <p:cNvPr id="240" name=""/>
            <p:cNvSpPr/>
            <p:nvPr/>
          </p:nvSpPr>
          <p:spPr>
            <a:xfrm>
              <a:off x="5076720" y="187380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6400" y="17708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627280" y="2489760"/>
            <a:ext cx="287280" cy="307080"/>
            <a:chOff x="2627280" y="2489760"/>
            <a:chExt cx="287280" cy="307080"/>
          </a:xfrm>
        </p:grpSpPr>
        <p:sp>
          <p:nvSpPr>
            <p:cNvPr id="243" name=""/>
            <p:cNvSpPr/>
            <p:nvPr/>
          </p:nvSpPr>
          <p:spPr>
            <a:xfrm>
              <a:off x="2627280" y="2592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6960" y="248976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556000" y="1913400"/>
            <a:ext cx="287280" cy="307080"/>
            <a:chOff x="2556000" y="1913400"/>
            <a:chExt cx="287280" cy="307080"/>
          </a:xfrm>
        </p:grpSpPr>
        <p:sp>
          <p:nvSpPr>
            <p:cNvPr id="246" name=""/>
            <p:cNvSpPr/>
            <p:nvPr/>
          </p:nvSpPr>
          <p:spPr>
            <a:xfrm>
              <a:off x="2556000" y="201672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05680" y="191340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804000" y="1194480"/>
            <a:ext cx="287280" cy="307080"/>
            <a:chOff x="6804000" y="1194480"/>
            <a:chExt cx="287280" cy="307080"/>
          </a:xfrm>
        </p:grpSpPr>
        <p:sp>
          <p:nvSpPr>
            <p:cNvPr id="249" name=""/>
            <p:cNvSpPr/>
            <p:nvPr/>
          </p:nvSpPr>
          <p:spPr>
            <a:xfrm>
              <a:off x="6804000" y="1297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3680" y="119448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940360" y="1122840"/>
            <a:ext cx="287280" cy="307080"/>
            <a:chOff x="5940360" y="1122840"/>
            <a:chExt cx="287280" cy="307080"/>
          </a:xfrm>
        </p:grpSpPr>
        <p:sp>
          <p:nvSpPr>
            <p:cNvPr id="252" name=""/>
            <p:cNvSpPr/>
            <p:nvPr/>
          </p:nvSpPr>
          <p:spPr>
            <a:xfrm>
              <a:off x="5940360" y="122580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90040" y="11228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132000" y="1410480"/>
            <a:ext cx="287640" cy="307080"/>
            <a:chOff x="3132000" y="1410480"/>
            <a:chExt cx="287640" cy="307080"/>
          </a:xfrm>
        </p:grpSpPr>
        <p:sp>
          <p:nvSpPr>
            <p:cNvPr id="255" name=""/>
            <p:cNvSpPr/>
            <p:nvPr/>
          </p:nvSpPr>
          <p:spPr>
            <a:xfrm>
              <a:off x="3132000" y="151344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1680" y="1410480"/>
              <a:ext cx="2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56000" y="1338840"/>
            <a:ext cx="287280" cy="307080"/>
            <a:chOff x="2556000" y="1338840"/>
            <a:chExt cx="287280" cy="307080"/>
          </a:xfrm>
        </p:grpSpPr>
        <p:sp>
          <p:nvSpPr>
            <p:cNvPr id="258" name=""/>
            <p:cNvSpPr/>
            <p:nvPr/>
          </p:nvSpPr>
          <p:spPr>
            <a:xfrm>
              <a:off x="2556000" y="1441800"/>
              <a:ext cx="103320" cy="849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05680" y="1338840"/>
              <a:ext cx="23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76720" y="2708280"/>
            <a:ext cx="0" cy="144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4292640"/>
            <a:ext cx="216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4149720"/>
            <a:ext cx="576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4437000"/>
            <a:ext cx="576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4005360"/>
            <a:ext cx="576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280" y="4221000"/>
            <a:ext cx="576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508640"/>
            <a:ext cx="576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2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4797360"/>
            <a:ext cx="576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5084640"/>
            <a:ext cx="576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эт. ж/д №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342900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ба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3645000"/>
            <a:ext cx="57636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3213000"/>
            <a:ext cx="57600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3573360"/>
            <a:ext cx="576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500280"/>
            <a:ext cx="576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2852640"/>
            <a:ext cx="28764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3789360"/>
            <a:ext cx="28764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940360" y="4149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12000" y="429264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Ч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6720" y="378936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ВДП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36000" y="3573360"/>
            <a:ext cx="50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2000" y="3573360"/>
            <a:ext cx="50508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44000" y="37162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567640" y="3573360"/>
            <a:ext cx="57636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567640" y="3141720"/>
            <a:ext cx="576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01080" y="2924280"/>
            <a:ext cx="50472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12000" y="314172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08720" y="306864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-эт. ж/д №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56360" y="2421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32720" y="1916280"/>
            <a:ext cx="2854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80360" y="2421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2492280"/>
            <a:ext cx="287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КБ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93080" y="184464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234936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ПД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2720" y="249228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20000" y="26370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740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708280"/>
            <a:ext cx="28872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01964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360" y="515772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84720" y="5013360"/>
            <a:ext cx="28764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005360"/>
            <a:ext cx="28764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67280" y="501336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8000" y="515772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0920" y="4724280"/>
            <a:ext cx="28764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979640" y="350028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6360" y="184464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2421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76720" y="256536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84720" y="573408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084720" y="2565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8472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4720" y="2637000"/>
            <a:ext cx="43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5508720" y="256536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7280" y="285264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56360" y="1628640"/>
            <a:ext cx="5047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бикомбан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56000" y="263700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апте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2781360"/>
            <a:ext cx="5047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Суд. прис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84720" y="907920"/>
            <a:ext cx="28764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9640" y="981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80360" y="105264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292720" y="2707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88000" y="28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788000" y="256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270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1700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56360" y="17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198900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ВД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2000" y="62064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узе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56000" y="1844640"/>
            <a:ext cx="5050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сбербан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667640" y="1125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40720" y="98100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51280" y="1125360"/>
            <a:ext cx="50328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Дом  культур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59640" y="69228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59640" y="836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836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2000" y="76500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2000" y="76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836640"/>
            <a:ext cx="505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эт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765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эт. ж/д №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5640" y="765000"/>
            <a:ext cx="50472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эт. ж/д №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198900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162864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00720" y="1197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716000" y="1052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42728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141300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981000"/>
            <a:ext cx="43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788000" y="14842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00720" y="148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643280" y="1916280"/>
            <a:ext cx="144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2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24360" y="227664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59280" y="285264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88000" y="213372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0364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27280" y="2924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227664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59280" y="234936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92360" y="2205000"/>
            <a:ext cx="28764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836640"/>
            <a:ext cx="431640" cy="144360"/>
          </a:xfrm>
          <a:custGeom>
            <a:avLst/>
            <a:gdLst>
              <a:gd name="textAreaLeft" fmla="*/ 94680 w 431640"/>
              <a:gd name="textAreaRight" fmla="*/ 336960 w 431640"/>
              <a:gd name="textAreaTop" fmla="*/ 31680 h 144360"/>
              <a:gd name="textAreaBottom" fmla="*/ 1126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40000" y="213372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9564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95640" y="2060640"/>
            <a:ext cx="287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708000" y="206064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92360" y="20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2276640"/>
            <a:ext cx="7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22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2060640"/>
            <a:ext cx="287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Адм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2000" y="2205000"/>
            <a:ext cx="2890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ОВД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771280" y="21337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432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213372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19280" y="227664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24000" y="234936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119700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79640" y="170028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7280" y="2708280"/>
            <a:ext cx="28764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35280" y="177336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59280" y="1773360"/>
            <a:ext cx="287280" cy="1443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708360" y="1268280"/>
            <a:ext cx="289080" cy="2890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640" y="220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2060640"/>
            <a:ext cx="503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Гостиниц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2060640"/>
            <a:ext cx="36036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Поч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63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48000" y="1125360"/>
            <a:ext cx="43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32000" y="1628640"/>
            <a:ext cx="576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нивермаг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03280" y="170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40000" y="1125360"/>
            <a:ext cx="287280" cy="14472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348000" y="119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0000" y="126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7280" y="1773360"/>
            <a:ext cx="43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24360" y="162864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магазин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1700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1280" y="17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48000" y="692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48000" y="6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19640" y="549360"/>
            <a:ext cx="431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школ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1054440" y="4498200"/>
            <a:ext cx="93492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Красноармейск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92720" y="5300640"/>
            <a:ext cx="79200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Строи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0" y="5445000"/>
            <a:ext cx="935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 Новостроитель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5229360" y="4282560"/>
            <a:ext cx="93528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ул. Кооперативна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80000" y="1413000"/>
            <a:ext cx="1079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Переулок Ю. Коммунар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24720" y="3789360"/>
            <a:ext cx="647640" cy="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40000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ул. Хахолов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www.PHILka.RU</cp:lastModifiedBy>
  <dcterms:modified xsi:type="dcterms:W3CDTF">2009-03-03T06:17:20Z</dcterms:modified>
  <cp:revision>82</cp:revision>
  <dc:subject/>
  <dc:title>Слайд 1</dc:title>
</cp:coreProperties>
</file>