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A34-563A-4993-8A84-08091784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7D1C-ED38-4E9E-BA60-FFE80D1F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617-DD72-418A-A7A7-CB32D751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CC54-0761-45BE-B369-BA6C5323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EA7-1F3F-4E08-B1B5-D5A22ED0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D82-47DC-4B8F-9ADB-23E7E608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C5D-CF73-4938-8C36-4A895E98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3FB-5A3C-4CAF-8F8E-5F66C793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B03D-3506-499A-911D-FD4F1DC5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BAD-B4BA-4EE9-84D8-C05F6894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751-D0CB-4745-9048-B85DF6A3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A5DD-1F50-459D-B693-B3633DEC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7835-480B-4896-8CFA-1E7F9F535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8360" y="3068640"/>
            <a:ext cx="50472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Котельн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68560" y="1219320"/>
            <a:ext cx="21420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48040" y="1260360"/>
            <a:ext cx="31896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850920" y="3213000"/>
            <a:ext cx="36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292720" y="5445000"/>
          <a:ext cx="3733920" cy="935280"/>
        </p:xfrm>
        <a:graphic>
          <a:graphicData uri="http://schemas.openxmlformats.org/drawingml/2006/table">
            <a:tbl>
              <a:tblPr/>
              <a:tblGrid>
                <a:gridCol w="990720"/>
                <a:gridCol w="838080"/>
                <a:gridCol w="685800"/>
                <a:gridCol w="609480"/>
                <a:gridCol w="609840"/>
              </a:tblGrid>
              <a:tr h="217440">
                <a:tc row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ой социальный фон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зд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населения, чел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рудо-способ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ые до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 flipV="1">
            <a:off x="6804000" y="1773360"/>
            <a:ext cx="1584360" cy="2232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88000" y="907920"/>
            <a:ext cx="71640" cy="144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547640" y="5013360"/>
            <a:ext cx="216000" cy="71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571640" y="2781360"/>
            <a:ext cx="3589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2708280"/>
            <a:ext cx="720720" cy="2665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1341360"/>
            <a:ext cx="73080" cy="142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4360" y="4869000"/>
            <a:ext cx="0" cy="504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2781360"/>
            <a:ext cx="144360" cy="2303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771280" y="5084640"/>
            <a:ext cx="23036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900000" y="2637000"/>
            <a:ext cx="216000" cy="71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56720" y="2205000"/>
            <a:ext cx="21564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2560" y="-2619360"/>
            <a:ext cx="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076720" y="4005360"/>
            <a:ext cx="1727280" cy="1079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4560" y="-5643720"/>
            <a:ext cx="0" cy="144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6803640" y="3716280"/>
            <a:ext cx="289080" cy="217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618920" y="5084640"/>
            <a:ext cx="1152360" cy="289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2565360"/>
            <a:ext cx="719280" cy="430200"/>
          </a:xfrm>
          <a:prstGeom prst="flowChartManualInpu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189000"/>
            <a:ext cx="4392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хема тепловых сетей котельной  № 3 с. Каба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4586000">
            <a:off x="2806560" y="1377720"/>
            <a:ext cx="5047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4520400">
            <a:off x="1797840" y="1162080"/>
            <a:ext cx="5050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3783000">
            <a:off x="3154320" y="872640"/>
            <a:ext cx="500040" cy="14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067280" y="227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995640" y="227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2276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116000" y="3284640"/>
            <a:ext cx="216000" cy="71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258920" y="3933360"/>
            <a:ext cx="217440" cy="73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5640" y="5084640"/>
            <a:ext cx="71280" cy="144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8000" y="5300640"/>
            <a:ext cx="7164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211640" y="299700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1268280"/>
            <a:ext cx="936360" cy="3816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340000" y="3789360"/>
            <a:ext cx="287280" cy="71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1080" y="3645000"/>
            <a:ext cx="21600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4941720"/>
            <a:ext cx="0" cy="144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4941720"/>
            <a:ext cx="0" cy="142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80360" y="4724280"/>
            <a:ext cx="216000" cy="142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40720" y="4149720"/>
            <a:ext cx="216000" cy="142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380360" y="3645000"/>
            <a:ext cx="720720" cy="1079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2000" y="4292640"/>
            <a:ext cx="144360" cy="288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08720" y="4653000"/>
            <a:ext cx="142920" cy="288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403280" y="4508640"/>
            <a:ext cx="216000" cy="72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36000" y="3068640"/>
            <a:ext cx="28728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557360"/>
            <a:ext cx="144360" cy="287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1916280"/>
            <a:ext cx="144360" cy="72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003640" y="3716280"/>
            <a:ext cx="4320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43640" y="4005360"/>
            <a:ext cx="144360" cy="288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419280" y="1557360"/>
            <a:ext cx="215640" cy="71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867280" y="2133720"/>
            <a:ext cx="144720" cy="287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443280" y="2349360"/>
            <a:ext cx="144360" cy="289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1125360"/>
            <a:ext cx="71640" cy="144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44000" y="1700280"/>
            <a:ext cx="21564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3080" y="3645000"/>
            <a:ext cx="647640" cy="504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932000" y="2349000"/>
            <a:ext cx="142920" cy="71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308360" y="691920"/>
            <a:ext cx="142920" cy="215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203280" y="1413000"/>
            <a:ext cx="144360" cy="73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643280" y="836640"/>
            <a:ext cx="2735280" cy="865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00720" y="1197000"/>
            <a:ext cx="7164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7596000" y="2636640"/>
            <a:ext cx="21564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700000" y="907920"/>
            <a:ext cx="3589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203640" y="1052640"/>
            <a:ext cx="144360" cy="71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1844640"/>
            <a:ext cx="1224000" cy="504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932000" y="1413000"/>
            <a:ext cx="647640" cy="1368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708360" y="1988640"/>
            <a:ext cx="216000" cy="71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124000" y="3141720"/>
            <a:ext cx="287280" cy="71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419640" y="1916280"/>
            <a:ext cx="144360" cy="71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59280" y="907920"/>
            <a:ext cx="936360" cy="1729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79640" y="2492280"/>
            <a:ext cx="287280" cy="73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92360" y="1267920"/>
            <a:ext cx="287280" cy="71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835280" y="1773360"/>
            <a:ext cx="288720" cy="71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484000" y="4508640"/>
            <a:ext cx="289080" cy="71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393920" y="4759200"/>
            <a:ext cx="337320" cy="365760"/>
            <a:chOff x="1393920" y="4759200"/>
            <a:chExt cx="337320" cy="365760"/>
          </a:xfrm>
        </p:grpSpPr>
        <p:sp>
          <p:nvSpPr>
            <p:cNvPr id="117" name=""/>
            <p:cNvSpPr/>
            <p:nvPr/>
          </p:nvSpPr>
          <p:spPr>
            <a:xfrm rot="20517000">
              <a:off x="1404360" y="4925160"/>
              <a:ext cx="103320" cy="85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0517000">
              <a:off x="1451520" y="478836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635280" y="5373720"/>
            <a:ext cx="5050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4411800">
            <a:off x="1402200" y="4366080"/>
            <a:ext cx="50508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711400">
            <a:off x="1763280" y="551664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4540800">
            <a:off x="1259640" y="3788640"/>
            <a:ext cx="5032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4491600">
            <a:off x="1582920" y="4904640"/>
            <a:ext cx="505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0703600">
            <a:off x="7236000" y="907920"/>
            <a:ext cx="50472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294200">
            <a:off x="6156360" y="263664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8382800">
            <a:off x="8026920" y="1557720"/>
            <a:ext cx="50472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780000" y="4723560"/>
            <a:ext cx="287280" cy="14292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5374400">
            <a:off x="691920" y="3923280"/>
            <a:ext cx="79236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ул. Маяковского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4437000"/>
            <a:ext cx="28908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РВК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932360" y="3572280"/>
            <a:ext cx="287280" cy="307080"/>
            <a:chOff x="4932360" y="3572280"/>
            <a:chExt cx="287280" cy="307080"/>
          </a:xfrm>
        </p:grpSpPr>
        <p:sp>
          <p:nvSpPr>
            <p:cNvPr id="133" name=""/>
            <p:cNvSpPr/>
            <p:nvPr/>
          </p:nvSpPr>
          <p:spPr>
            <a:xfrm>
              <a:off x="4932360" y="3672360"/>
              <a:ext cx="103320" cy="85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82040" y="357228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851280" y="4940640"/>
            <a:ext cx="287280" cy="307080"/>
            <a:chOff x="3851280" y="4940640"/>
            <a:chExt cx="287280" cy="307080"/>
          </a:xfrm>
        </p:grpSpPr>
        <p:sp>
          <p:nvSpPr>
            <p:cNvPr id="136" name=""/>
            <p:cNvSpPr/>
            <p:nvPr/>
          </p:nvSpPr>
          <p:spPr>
            <a:xfrm>
              <a:off x="3851280" y="5040720"/>
              <a:ext cx="103320" cy="85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0960" y="494064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700360" y="4940640"/>
            <a:ext cx="287280" cy="307080"/>
            <a:chOff x="2700360" y="4940640"/>
            <a:chExt cx="287280" cy="307080"/>
          </a:xfrm>
        </p:grpSpPr>
        <p:sp>
          <p:nvSpPr>
            <p:cNvPr id="139" name=""/>
            <p:cNvSpPr/>
            <p:nvPr/>
          </p:nvSpPr>
          <p:spPr>
            <a:xfrm>
              <a:off x="2700360" y="5040720"/>
              <a:ext cx="103320" cy="85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50040" y="494064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508720" y="1267200"/>
            <a:ext cx="287280" cy="307080"/>
            <a:chOff x="5508720" y="1267200"/>
            <a:chExt cx="287280" cy="307080"/>
          </a:xfrm>
        </p:grpSpPr>
        <p:sp>
          <p:nvSpPr>
            <p:cNvPr id="142" name=""/>
            <p:cNvSpPr/>
            <p:nvPr/>
          </p:nvSpPr>
          <p:spPr>
            <a:xfrm>
              <a:off x="5508720" y="1367280"/>
              <a:ext cx="103320" cy="85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58400" y="126720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667640" y="4004280"/>
            <a:ext cx="287280" cy="307080"/>
            <a:chOff x="7667640" y="4004280"/>
            <a:chExt cx="287280" cy="307080"/>
          </a:xfrm>
        </p:grpSpPr>
        <p:sp>
          <p:nvSpPr>
            <p:cNvPr id="145" name=""/>
            <p:cNvSpPr/>
            <p:nvPr/>
          </p:nvSpPr>
          <p:spPr>
            <a:xfrm>
              <a:off x="7667640" y="4104000"/>
              <a:ext cx="103320" cy="85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17320" y="400428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003640" y="4940640"/>
            <a:ext cx="287640" cy="307080"/>
            <a:chOff x="5003640" y="4940640"/>
            <a:chExt cx="287640" cy="307080"/>
          </a:xfrm>
        </p:grpSpPr>
        <p:sp>
          <p:nvSpPr>
            <p:cNvPr id="148" name=""/>
            <p:cNvSpPr/>
            <p:nvPr/>
          </p:nvSpPr>
          <p:spPr>
            <a:xfrm>
              <a:off x="5003640" y="5040720"/>
              <a:ext cx="103320" cy="85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53320" y="4940640"/>
              <a:ext cx="2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859280" y="2635920"/>
            <a:ext cx="287280" cy="307080"/>
            <a:chOff x="4859280" y="2635920"/>
            <a:chExt cx="287280" cy="307080"/>
          </a:xfrm>
        </p:grpSpPr>
        <p:sp>
          <p:nvSpPr>
            <p:cNvPr id="151" name=""/>
            <p:cNvSpPr/>
            <p:nvPr/>
          </p:nvSpPr>
          <p:spPr>
            <a:xfrm>
              <a:off x="4859280" y="2735640"/>
              <a:ext cx="103320" cy="85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08960" y="263592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987640" y="763920"/>
            <a:ext cx="287280" cy="307080"/>
            <a:chOff x="2987640" y="763920"/>
            <a:chExt cx="287280" cy="307080"/>
          </a:xfrm>
        </p:grpSpPr>
        <p:sp>
          <p:nvSpPr>
            <p:cNvPr id="154" name=""/>
            <p:cNvSpPr/>
            <p:nvPr/>
          </p:nvSpPr>
          <p:spPr>
            <a:xfrm>
              <a:off x="2987640" y="864000"/>
              <a:ext cx="103320" cy="85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37320" y="76392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987640" y="479736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0632800">
            <a:off x="1979640" y="4941720"/>
            <a:ext cx="50472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4484400">
            <a:off x="934920" y="2529720"/>
            <a:ext cx="505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4497000">
            <a:off x="1114920" y="3142440"/>
            <a:ext cx="50472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4797360"/>
            <a:ext cx="505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4564800">
            <a:off x="2554200" y="4366080"/>
            <a:ext cx="505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9906800">
            <a:off x="5148000" y="4581000"/>
            <a:ext cx="50472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4642200">
            <a:off x="2230920" y="3032640"/>
            <a:ext cx="50508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5340800">
            <a:off x="2015280" y="382500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4640400">
            <a:off x="2410200" y="3645360"/>
            <a:ext cx="505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5448200">
            <a:off x="2159640" y="447264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4484400">
            <a:off x="1943280" y="173736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5286800">
            <a:off x="1654920" y="245664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4482600">
            <a:off x="2088000" y="2385000"/>
            <a:ext cx="50472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5448200">
            <a:off x="1799280" y="310428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4533200">
            <a:off x="3096360" y="195300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3783600">
            <a:off x="3383280" y="137700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5437400">
            <a:off x="1367280" y="1232280"/>
            <a:ext cx="50472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5364800">
            <a:off x="1512000" y="1808640"/>
            <a:ext cx="505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995640" y="450864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70836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411280" y="835920"/>
            <a:ext cx="287640" cy="14292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435640" y="3644280"/>
            <a:ext cx="287280" cy="14292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0305200">
            <a:off x="4427640" y="184464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7746200">
            <a:off x="4823280" y="1808280"/>
            <a:ext cx="50508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7863200">
            <a:off x="4607640" y="231408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3701400">
            <a:off x="3670560" y="188028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0632800">
            <a:off x="6300720" y="765000"/>
            <a:ext cx="50472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20626800">
            <a:off x="5580000" y="98100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0562600">
            <a:off x="4932000" y="119664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20401200">
            <a:off x="4284720" y="141300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20703600">
            <a:off x="7092720" y="54900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391400">
            <a:off x="5579640" y="242064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20637600">
            <a:off x="6156360" y="1341360"/>
            <a:ext cx="50472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8323400">
            <a:off x="7666560" y="2061000"/>
            <a:ext cx="50472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8282600">
            <a:off x="8279640" y="1737360"/>
            <a:ext cx="50472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8220200">
            <a:off x="7631640" y="2745360"/>
            <a:ext cx="50472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8221400">
            <a:off x="7992360" y="2313720"/>
            <a:ext cx="50472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8369000">
            <a:off x="7271280" y="2529000"/>
            <a:ext cx="50508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8337800">
            <a:off x="7308000" y="3285000"/>
            <a:ext cx="505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8366000">
            <a:off x="6912720" y="296172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8370200">
            <a:off x="6587280" y="357408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8159600">
            <a:off x="7415640" y="4761360"/>
            <a:ext cx="505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8025200">
            <a:off x="7776360" y="425664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7993400">
            <a:off x="8136360" y="3753360"/>
            <a:ext cx="505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9757400">
            <a:off x="6372360" y="429228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8288600">
            <a:off x="6839640" y="396936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9873800">
            <a:off x="5651640" y="4220640"/>
            <a:ext cx="50472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9679400">
            <a:off x="6156000" y="3933360"/>
            <a:ext cx="50472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9691400">
            <a:off x="5364000" y="4869000"/>
            <a:ext cx="505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9741800">
            <a:off x="5867280" y="4581000"/>
            <a:ext cx="50508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5484800">
            <a:off x="2420640" y="3202560"/>
            <a:ext cx="79236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ул. Заречн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9665000">
            <a:off x="6156360" y="4652640"/>
            <a:ext cx="79200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ул. Набережн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793000">
            <a:off x="5292720" y="836280"/>
            <a:ext cx="79200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ул. Спортивн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4856000">
            <a:off x="2781360" y="2123640"/>
            <a:ext cx="79200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ул. Стадионн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187400">
            <a:off x="5579640" y="2708280"/>
            <a:ext cx="79236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ул. Заводск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4:59:48Z</dcterms:created>
  <dc:creator>Саша</dc:creator>
  <dc:description/>
  <dc:language>en-US</dc:language>
  <cp:lastModifiedBy>www.PHILka.RU</cp:lastModifiedBy>
  <dcterms:modified xsi:type="dcterms:W3CDTF">2009-03-03T06:18:22Z</dcterms:modified>
  <cp:revision>85</cp:revision>
  <dc:subject/>
  <dc:title>Слайд 1</dc:title>
</cp:coreProperties>
</file>